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</p:sldMasterIdLst>
  <p:notesMasterIdLst>
    <p:notesMasterId r:id="rId37"/>
  </p:notes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  <p:sldId id="265" r:id="rId47"/>
    <p:sldId id="266" r:id="rId48"/>
    <p:sldId id="267" r:id="rId49"/>
    <p:sldId id="268" r:id="rId50"/>
    <p:sldId id="269" r:id="rId51"/>
    <p:sldId id="270" r:id="rId52"/>
    <p:sldId id="271" r:id="rId53"/>
    <p:sldId id="272" r:id="rId54"/>
    <p:sldId id="273" r:id="rId55"/>
    <p:sldId id="274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notesMaster" Target="notesMasters/notesMaster1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slide" Target="slides/slide10.xml"/><Relationship Id="rId48" Type="http://schemas.openxmlformats.org/officeDocument/2006/relationships/slide" Target="slides/slide11.xml"/><Relationship Id="rId49" Type="http://schemas.openxmlformats.org/officeDocument/2006/relationships/slide" Target="slides/slide12.xml"/><Relationship Id="rId50" Type="http://schemas.openxmlformats.org/officeDocument/2006/relationships/slide" Target="slides/slide13.xml"/><Relationship Id="rId51" Type="http://schemas.openxmlformats.org/officeDocument/2006/relationships/slide" Target="slides/slide14.xml"/><Relationship Id="rId52" Type="http://schemas.openxmlformats.org/officeDocument/2006/relationships/slide" Target="slides/slide15.xml"/><Relationship Id="rId53" Type="http://schemas.openxmlformats.org/officeDocument/2006/relationships/slide" Target="slides/slide16.xml"/><Relationship Id="rId54" Type="http://schemas.openxmlformats.org/officeDocument/2006/relationships/slide" Target="slides/slide17.xml"/><Relationship Id="rId55" Type="http://schemas.openxmlformats.org/officeDocument/2006/relationships/slide" Target="slides/slide18.xml"/><Relationship Id="rId56" Type="http://schemas.openxmlformats.org/officeDocument/2006/relationships/slide" Target="slides/slide19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 type="dt" idx="10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 type="ftr" idx="10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6"/>
          <p:cNvSpPr>
            <a:spLocks noGrp="1"/>
          </p:cNvSpPr>
          <p:nvPr>
            <p:ph type="sldNum" idx="10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2755-0DB8-4DA1-8B7B-CF23E4332489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B6C9-D891-4CF3-9FBC-E3C985FAB8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7CA6-8E8F-4D74-BDFB-C12E988D5E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F0FB-7B17-41DA-87F3-FE844EC593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98ED-177F-4FD4-ADC8-D856C05EED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0C09-E02D-43FA-861C-225C1A4A31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16E5-1D81-4483-82C8-78CE38A6E2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842F-12B8-4B06-8360-68B195E72A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5C6A-3D69-44A1-902E-0EB22108B9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433F-12E6-4340-8008-3F4E5F8C62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D1A9-04AA-426E-8F47-D6521C375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1662-A8FF-4715-9093-D682C947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980DFB-B197-4AD5-9AEC-BA2B10A4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D5D89-C854-416D-B70D-D2BF5579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5A3869-3873-46C4-8224-0824B978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6D151F-F36F-4D01-891D-C198B508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FF4CAB-99DF-4807-812D-D0CDB862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B60436-A9C1-4ADE-A0A2-0A14C9FC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432E29-5271-4E86-A532-4CAB4622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B3425B-7A32-4A39-94E6-AD6C1103B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C21CA9-8443-4C92-AB63-46980DCF0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064E86-E078-4843-A635-DAC5D45DC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56CD-3822-4EDD-8E04-53D88FB8F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090665-7845-4A2D-AD61-3E58D6C2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24DE5C-85F8-42CC-9285-6D47BCDD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E3DA8C-0AE3-4A7F-A98F-D7318093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942BCA-BB6C-4D4F-8C76-77A47EE8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7F5FBF-8D98-4B81-AF1B-8183BC98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EC5898-C3FA-43CB-AF28-4E64037D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D97CC2-D743-4E36-A6EA-D2557ED9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F53193-D4CC-437F-B20C-153E9A70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9A6BA5-D618-4884-A682-6D6251EA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605925-8ACC-4DD3-92B6-DF5F8102E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2485-B254-496D-9316-AD612DB46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D865CE-C6D9-4C66-A57D-D872B31C9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CBEADEA-FED7-43E6-8F2A-EDE1AE52C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505B7AB-8BB5-42AD-BC1A-4F091835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87C0462-5235-4D66-B475-98F9DC2B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E79DF00-393A-424B-97A7-B289EAC2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40F20C6-8AA5-481E-A78A-001C8961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46B5CD9-E661-45D8-B7A3-55C777B9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D809E5C-0BFE-4EB4-ADCA-3ED3C41C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61F2DD1-3AA1-4F34-8193-BEA5E353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1C63989-AC80-4ED2-A8B4-8B9C225B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9D9FA-B40C-458C-8045-EE07FA8BD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24BFC9B-EADD-4D2C-BC50-068C0BC3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E23FD75-D3DF-4B34-B2E4-A8BD5AC81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45BEED4-551D-443F-B2C4-204CB8B25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CC32CC-5285-482D-ADF7-395AC7E91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2A760C-65D7-4E11-BCCF-07A1FFA0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13F51B-09CE-4386-8F31-2426455E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4AF84C-9C4D-436F-A332-BC612E7F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131CAA-7614-4D5C-9D89-32AD15FE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236618-095E-44F8-8C9B-5C9E9B45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658749-4AEF-4D73-9305-68E81A36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7A46-321A-4C97-B332-F26819D3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E24B21-23E0-449A-9E33-2BED854E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9ED1BE-A70E-4C2B-98DD-04B58C66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B7318C-D35C-4EAA-B4BF-04E9E533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B0DE88-2519-4C42-82DD-487E7AF59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4DF84F-6A39-41B9-90A8-33C007BB1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15B2490-EE70-43C5-BAFD-9A89082B8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AB8C255-971E-4FDE-B2A2-2D5A7686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EEA95A-9310-47A5-AAF3-82448E91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8960B58-2CAE-4431-8422-94D89A6A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4659F3-13A5-4A9D-924B-8E83CB7C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0C41-502A-4025-BB24-8AE2EADD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9492E3-CAE4-407F-B604-2D88BA42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28745B-CF35-4E94-A21C-F77BD681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5562201-3378-45FE-9D9F-67FF3DB3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49F930-2C1C-436B-8E3E-B956833F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2BD5EBF-32C1-4E7B-B15D-4D8734B0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B49311-1169-4590-83F5-732196B53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5B6051-B77C-4A39-BFB8-0C70D3F55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DD2D48-DA0A-4287-8E9C-5D944E21F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81062B-38CD-400C-BA44-9120BCAD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F75D57-8D26-4DA4-BE63-FC9657AE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1166-D002-49F9-BC95-FF1BDCCE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9CD0BE-9482-43B9-A18D-0BBFBA0E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5430C6-9DD7-4E31-8276-807ABD95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EC5A51-809A-4EA8-80F2-64FCD075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5D489A-3785-4C16-9273-C512BC21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D20F4E-5A1B-4BB5-B20D-E1F5C20E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355D9B-A8EC-413B-8FE5-1AB2B3BE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7B4B71-347D-476B-B005-699D767C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3CB9A1-95CD-4830-AC58-6E4601048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F89562-D7C3-443B-8870-68A54647A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237EE4-2C04-4DFA-BCC8-74D77185B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1E6CC-D7F8-4847-BB10-7614B15A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DC1765-5344-486A-AF6A-D71C4984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B81CB2-B413-47A1-8CAD-9131CE1C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34BC01-9652-4763-9808-EE2F2056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A1226B-5302-4D4B-BC68-1ACBA5F5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2FDC02-5A94-4DE4-9095-C0B080BE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80B653-9182-48D0-B27D-B43C1F8A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AE8A0A-858A-4250-9D1D-A335002F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21C655-BDF5-47CA-95D3-9D6C6D42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919B10-92CD-41CD-9864-AC986FEE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8356EC-160A-4777-B08B-FDF7590CA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30C6-78E6-44E3-B444-4F525198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55A729-40C9-4A87-810A-51AAF2800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D0FA3C-60F4-4FDE-9D62-BBE21B5C9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24317F-1151-4458-BC5F-81A6029D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E66488-3D86-484A-9DE1-F6B8C370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6FA2CF-75AE-441B-9BFB-C2722DFF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12F741-21F1-45F9-8E90-74583A2C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4FAB53-542E-48FF-AB4A-93527954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A0447C-95AA-4BCA-9191-8FC2A5DE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4448CC-FBBA-4F2C-912A-D0C44143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6BA2CC-394D-4CBD-BBBC-8ADC5347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B297-9705-4986-8A24-AACE9530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1FC239-8EF3-49DD-B688-09A89855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DE1B15-B5D5-4927-8E65-AC44C7165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56B367-0443-4EAC-B20E-3A42DD900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B2B6FC5-58F0-457A-8AFE-37103686C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C5BBEC5-0D7A-4C7B-AFB2-3EDDE6FB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AB2BC32-D343-4E83-A7D3-292F09BE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3EE2CC8-AEB5-4F35-8861-673663FA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E78B209-B679-43C1-9BA8-C81BCC66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EFCAA73-96D2-4F92-949D-1024E016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B0FB692-F18C-4A4A-B458-DFC46CCC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B31E-E268-43B8-8320-70EB6D98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AA6EA-B2BD-437A-9108-79F4445A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30BBFA8-F08E-49AB-A4E8-C211828F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1E22E72-545B-41B0-AC9B-C786B118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114E082-0240-41AA-8599-9F34503A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8F62412-2682-4F96-822E-B667E4944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73D3236-133F-404F-8965-0E271DE29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1BA3245-5A7D-4373-9337-FD124E362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1C2DD39-C623-414F-87E1-D070A47E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95C1A4D-3B94-4533-A94F-AEED5C2A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DE7CEEF-03F9-42E6-B35C-DC91B832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9DF611B-B24F-445C-9951-C979E1DE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78B1B-868E-4792-A492-CCB0F363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63505B0-9748-4562-9AC4-F6F6CCD5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31B53BF-4C61-40D5-B61B-3B92F719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5452FBA-A335-4773-8ECF-10531806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6094A91-59A1-4DD0-BEC6-554A6D57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58F1529-30F7-48E5-8216-74C19D21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9A1DFAD-CE44-4388-8957-B068DE2AB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B061F8B-C328-49C2-A4F3-8F87BE015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C9E0EB-8395-406E-9B46-5E801E002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0348EB-0018-4390-8577-949A03A9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6E94A5-8AF5-4EA3-B37B-8899FFA4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CDE1-C4D6-460B-990B-E7BACE9C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B48F40-FC2F-4393-B4C0-01F07587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EAFBF0-4CFD-40EA-B711-144D5925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86A428-394C-40C3-9912-5E3946D1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184495-4240-48D8-BDC3-7E04608F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B1F0D2-C0E5-45A2-9551-5B33C6CA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E31D21-6EB7-4999-BA52-A18BCDEE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24818E-FF41-47BC-81A3-D9B9B421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880053-951C-4B4A-A1B9-18B91392E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06C7F1-0112-4062-8345-49FEC6EBC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70FE19-DBBD-4861-818B-CE8D46CB8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AAE9-4342-4229-9252-701BA8B47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3CCCFA-87BF-46A4-A960-EA8EF948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8798BA-24E3-4283-A044-A72D2611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92B1F8-DB36-4EE5-8509-DC547F05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98B7E7-11D3-45C8-AF7C-C203CB3B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AD5C21-EC12-4B01-8C5F-A55726F2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EC0556-307A-4977-8998-89DE8784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3748F4-360C-496B-89B8-C9AE75E6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7C92FB-2F81-476D-945C-DB63194B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BB099E-18DA-4424-BA23-80ABA62B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737A54-E122-4658-812D-F4C0D6A25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50696-E209-4339-8169-73823076C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A71205-5AD2-4C05-943E-11D600AD0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053F1E-A5AB-4E67-9423-6D2FA527D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D2B3C2-6955-4E2F-9627-451E8BF2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C53686-5717-4F3E-8969-CE262AC5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7E91B2-DC50-4C4D-9658-492BB1D7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26F2B6-4072-4E6E-83DF-5C31495F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B2C368-4D87-4D49-B04D-D98F8701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5B3620-178E-49C0-B6F7-67FF17C7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2A83F5-E8CA-4920-9EAF-A98DD3A6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D50571-8918-4254-BB23-9A6688AB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2538D-F5BF-4C71-9E0C-444FD21E0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E1C4B1-5052-42D6-8132-CC25FD96E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E5D6CF-5BBA-47E6-A313-B751377FB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E272A2-1D09-4709-AC3A-8BA53A5EE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2299E3-812B-44A4-A017-0CF37A223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9EF7FA-64F1-4961-B902-497E667F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F641E1-231D-44EC-BAA9-DCA3683D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B43153-2971-4396-AD7B-87ECEDA6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890034-FADC-41C3-B370-507BB466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74901B-3F42-40FC-8B4D-46BE2152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61EACD-CF08-43C9-90A7-A16CE071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1C8D2-4479-4A77-8B41-B0C12B3F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72C17E-A5A9-4E0A-9F2A-6382E6AF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E83FA5-8B01-4030-BF90-AB69CC29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5E14FC-49E8-48D9-ADD7-AFA0F8ED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51E112-EC35-43BF-888B-44BB83BA7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D8564D-0C7D-47ED-A7C2-70BAB70C2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E933A8-78E2-4ABF-A8CB-B99A0F501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9282E3-841E-4FFC-8219-169BACE5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B678BD-6819-4D40-8B46-FF8DD848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896551-FB13-44FB-866C-4B42A3D6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53432C-8575-4B2B-A9A8-A4FF2136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86640-F6F0-4AE4-AAE3-870F5808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7FABC3-270C-421E-BCCD-55D8F755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3ED4F0-B642-4DD3-8D74-83F9CFF1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4629D7-DA09-4F82-BA9C-FC2DDEA1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72EF57-3B44-42B2-9AA7-723F0A59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4CFE36-6417-42B8-9D7E-C4FB62C0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0E075B-415A-47D3-94E5-83723F22A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4C4291-255C-4A19-9C4F-878F68D0A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FCD8B36-D36D-4895-8C45-0CF19D62C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43B946-5722-4E36-9B11-48873C59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03AAD8-31A2-4A38-A04A-C3561814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3D5C0-2DF4-49E9-80E6-1A64927C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FA917E-A66C-42E0-BAF0-42439995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5E7642-F6DF-4148-88E3-79770D68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981538-C4F2-4BEE-A9D3-08717283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971767-9393-43A9-A3DA-E434561B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3C77DD5-A6DB-4192-9249-A5CDC5D7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25BABC-ADD6-438C-B9AC-17BD5C6B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D2C18D-12D3-4BB8-82F4-3916909E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CB32056-0BC6-4302-9151-A7429CE9E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F7B7650-6E24-4A78-918F-7F1BDB8CD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11BFB40-61DB-4223-BD94-5C67F23BD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1D31A-B1EA-4552-86C7-7DF28054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0A0446B-4A56-4152-89B8-857D8194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A17CBD4-8319-4A9D-902F-8CCA0F88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CF3C40D-C99C-4EF1-8627-8410152E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51B5BBA-B9E8-450F-9BAF-D2FF94D4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52B8026-55D9-4A91-A3AC-427202CC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69C3FF6-CD33-4159-BD43-63FC10F6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FFC6F54-8200-49CE-A61F-4B5ACB66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F5BC721-62E5-4534-ACDA-07234805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1684B6E-B7E7-4C7F-96FE-54BFC8DE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A5193C0-B208-4234-A091-95FEFB177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02DF-0670-4B9A-89FA-C449F59D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FC32F-A62E-4EA4-A061-C99C0536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E8E731F-5A19-4541-8E04-843F54979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2F06B3C-6BF0-40A6-8B93-7AB4BC314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851B7C2-9FF4-44D2-829D-76DC248E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17727E9-656D-4455-A939-9CC0FB6F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A58FDE2-BE59-4E0B-BCC0-34F1D14A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A155FD3-0F2B-4252-9BE5-0F146692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7A3E207-9918-4737-B36C-6691BB2B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C7C8473-D946-4B09-99BB-04608263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6E24802-5C07-49CF-B2CA-2FBBDBEA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E94DFE1-3227-47B3-B137-B8D9FE56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67414-B0EF-4A02-9784-2700E629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E2859F6-B3E1-491C-81F8-6C8593E6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C6B27E9-8DAF-4EBC-BCFC-8DEB29235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8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9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0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149CB33-25CF-43A7-B6B4-370FC1598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4608870-1333-4E7D-BE13-074CD0356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0EBF0ED-FB10-4C2E-9F17-A35E88F1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C131C59-30EE-4CA9-BA9E-CAFFABE3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08E93BC-D2F8-4A1C-8CFE-D4C858D0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72C4F056-AE52-453A-B578-7483B499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39AC2A0-F2A2-4106-A38F-BC2026C7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9459954C-C59A-442C-83DD-CDB096A9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31521-F9BB-476B-B751-EF546B09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40882EA-AAE8-4293-B626-4B7298A0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193C7DE-8B60-4673-A623-7A866BDD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E30A461-779E-4A8F-BFD2-2851CD1D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56A2CC53-C8D1-47B4-9B13-DA4EE1AD4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7569BDFE-CEF9-4C1D-9A67-14EE15586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0FF582B-4937-4B36-885D-7B3244E96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658F722-7ADE-4514-AE7B-35F407FC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A1CDE60-78C2-4F6E-B9EC-971A426F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66AC214-497B-4719-9D17-24FBB3EC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A855F03-D322-457A-A2DF-92C641C8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B16D3-9CFF-4557-8C17-1429D770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FF5517D-8578-485B-97EF-DD02931B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D7DD647-3635-4480-AA7A-9316073A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15B54C3-BF73-4B5A-A948-9D81761E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B1BB2DE-E314-4E71-A34F-1F34FC03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06201C6-1E1F-47A8-B4B1-860DF096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A51221F-7028-4CA0-9FBE-F5F266FB9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D874056-FEA5-4C5D-9D39-C33B00A23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A9779F39-0EB6-4F4D-B41D-ECE2C0647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45267DC2-3E15-4627-A4DD-DF0CAD0B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9E92F8CB-CD61-4211-906B-DA53F65D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5475D-1BA9-4BA9-AFB7-82173B56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0703EA17-013E-4C06-99E4-C0A1270E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4298647D-AE55-4DB7-9A2E-A258733C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742BE439-67C3-415F-8AC7-2097DC78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F75D5FB7-E1B6-4CAD-96F1-4DE8CFD7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80653306-85E7-457A-AE8A-041E5676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64FF836F-717F-45AD-86F8-3AC7F4E3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43D76271-0B24-419C-BB54-8631B3C0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4A88E2F6-E249-439F-AED2-29C0CB2F5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C170F788-1850-4B50-B807-97FE0BA59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E84A71F-254F-4111-B783-BD3AA91C6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EFBB7-28B2-426F-9880-4458CB304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5E8F0CA-7439-49E0-9FEB-661B3843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E441CB8-22FF-440F-AC07-43611386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521A0CA-6120-47C9-B3BB-4CA7E4BA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91C8BC6-3E59-40B2-9A79-987EE4AF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8BEBCD0-20A8-4D4C-BAA8-7E730AFD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B93F6CE-6348-4FC0-9B4F-F756FCC7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A8E6DA3-EE5A-4372-AED5-D33EBA0C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C09453D-5A11-4EF3-A1A3-13BA3350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6EB0FB2-2700-42DE-BF5C-8856C59A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8120F26-06BD-40BF-B601-56604F453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5248C-E824-4874-9EC3-E5B7E616A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5991BA7-FFB1-4B7D-8043-97E379055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A254A95-83E1-47D8-B575-F82CA72DB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31DA631-967C-4765-AFEC-4721BE4A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4C20578-EC1D-426E-9B2A-AA6C2861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395E42D-BAF0-40B7-A640-DB8EA7BA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FD3EE04-2527-4E35-88EF-534A5179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6246DF2-4081-4723-9F0C-CE8A074B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C1E512E-3260-43CD-87D1-ECCB5DC5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167BA4D-BC2C-4F33-A25D-61D1FB01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9238E3E-CACF-49E8-9A01-B34F80D8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4FAD1-CCA9-4A1A-A364-31BE84CE3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3C824AE-2CF0-44BD-B930-8AC0CC79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581072A-B363-4DB1-98B6-1ECFFA2AD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A613A78-B1C7-4A42-B3AE-F9C617C25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542188D-828A-41A0-BF43-B30810A73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8B668C1-E3AB-4B09-A83D-DB426003E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C5A883C-09B9-4581-B01C-51CC8A2E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91F4D47-4BD4-4A4F-BF83-54D2071B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BFA0E46-28AC-4315-A31E-89D6C55A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39630FB-F504-4D76-9099-ABBB6346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72B27A0-8C82-4C64-BF28-106D67C1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510EC-E8EA-43CD-931C-5F6051F4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E7DB570-1E68-44D9-A3B8-CF939692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0BC930D-FBF8-449C-A2BA-DF89BA8F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9485B47-7E5B-4C34-A23C-30BC9FAF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139B704-5720-4AF6-9FF5-159F28219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A13B993-4AB1-4587-8544-B87CB902E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5BABDE3-6401-4421-8B9A-2C7A5695F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23719DB-F1C1-4F4A-9544-B65FF157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83C2D9E-F6D6-43F3-BA92-361F51A4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9CDB37D-6F3A-48E3-93FE-EC89490B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B0493EA-109F-4EB3-AF31-547ED632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21715-7287-4692-9E4E-33BBECF0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6809C6E-BF65-49F0-B6D7-8032F044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3319798-11FE-48D5-AEF7-2C6F6A60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F070CE8-669A-440F-90C3-A0F6AE5E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C301CB1-D4A7-42BD-AC33-AF02E356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AFBD059-43C1-44A7-82EB-B8D6F80F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846B1B2-A739-4C48-B232-7FD9320E3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AF786D9-4839-4EB0-892F-DB61137BA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ED5A1E9-4FC4-4997-978F-FB1F70C04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8E50E68-A9EC-4757-95AB-4BA41487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C99601B-2522-460B-8BA2-3FEB930A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673E-D6F0-4BD9-933B-4342844F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16C7C-773F-4456-A69C-AB8B6078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8E18895-1376-485E-90BD-D213546E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EAE768A-1C7B-451F-BC8F-42953E18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21E5DE7-C2F5-473C-873D-5018017E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7E0CECD-0DE1-44BD-A29C-DF096EA2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7BAC532-314E-46F7-BDF1-E34DF4E7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60033F7-99A1-4AF7-B69A-DBA38990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8BDF78F-6735-4357-830E-81478E3E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975955C-400A-4773-A83F-8881ED53F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633AA95-D2A8-46B5-B035-746935D37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7EA8ECB-1C3A-413C-82C2-8FE280598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D8602-0E25-46EF-93D5-F580C726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2066741-040F-4D1F-B626-59DFDC2A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9AFFAEC-BD7A-4246-8A70-F16F7EA7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794D55A-7327-4DB2-83EA-239AC14A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25E802F-BF7C-459A-B31D-F75FCC3E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0944D47-B5F6-454D-A749-041FC5D1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DD0D4EA-5BD2-438E-9AFD-02EED20E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211F01B-EDE4-4EED-A435-F4E8A0B1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D35804C-FCF6-4E4D-BC59-6FFDD776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FB2667D-DA6D-4F04-9D2D-F72774F8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12AC37F-9C27-4764-877B-0EC62C30F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38B1D-3EE0-4BD3-AC22-BBEC126E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2D1A966-8971-497E-8EE6-4BB6F74B7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45825-152E-437D-9CCD-2701109B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5A0E0-0D4D-4B89-99E5-8B278AFE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776C3-FC0E-498B-9332-E5719B0B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9D802-109A-438E-9BF8-17BC2DB8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993A0-D653-44FE-88D2-0B583B1BA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4C22C-95D7-4EE4-9A56-D5D48919D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EB7A1-EF6B-4451-9DA4-0BE99997C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AE7F-6F78-4F6A-8EAC-B7774032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0B3CC-C77C-4EBF-9F98-263BBF07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6BFF0-EC47-4174-A635-1DCB0A29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0E906-1352-4D6A-B3BD-FAEE0E29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E45C9-F9D1-432F-9373-34638CDC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1CF93-43CC-4859-9014-8DC34EF4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19D65-CC27-4FDE-9BE7-9B34536E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9BAB6-A937-4B5F-8E6A-E0C5EE72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053A1-C2E6-4493-ABC5-6F981C26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210BB-9728-4094-A7CB-BFDC2D6D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CCCA9-73BF-4CE6-998C-495CCA4B0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BD88-3293-4D6C-BE1E-70C7A55C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49209-A1AE-47AE-B636-AA422BAC4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C852C-4F3E-4372-B9CA-D67D5E920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9A3C4-C8AA-4772-9774-ED206F08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276FB-38F2-42AB-8BB7-FA2CF923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895E2-BF81-4D5B-B959-37399F75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36843-8122-4C23-BD6A-030DF6E1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6731F-0C71-40A5-9702-C473DC78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0DBA4-F5CC-4888-BDE1-9B7895E2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2A525-9A9E-4E1B-A703-89C815CA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ECA52-6854-4C66-AE5A-F358B585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F739-AB79-4276-83AE-C870502A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48F5A-16AD-4321-8F80-4C4F6D82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FD439-6517-4D56-8F92-86B102B58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F229C-B026-43AD-B103-963AE40E2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018D5-64F0-441F-B6BB-76DCF94C9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B09C6-A577-4793-A3A9-6BDFA6F4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45C14-C5F9-455E-B444-44FB1EED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17946-41BC-4F44-B3AF-E510AECB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47407-7812-414A-B562-4ED1B255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862F6-0235-4103-BD04-DF5B561F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62BF0-EC7D-4055-A7DD-BC3DD322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E77F-66EA-4E24-BD12-EAC232DF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92359-0BC0-48B3-A06C-4865C24E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FB85E-9083-4A24-A7F1-CD4AE0C0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71AD0-B939-41FC-9790-06EAC74A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2501C-73B8-4434-97AE-53525ED4A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8D6E9-781D-4B07-9550-BF757FA10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AA1B6-DFA5-4250-8EC5-B7F122854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7D2D0-6146-4B4C-9764-B5479053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04C9D-5443-490E-87E5-7903C684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330A3-52AE-45FE-BB84-23700C85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33E8A-C559-41AD-8471-22C8A7F0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B80D-8184-49EE-8155-77187BE7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D9DF2-DA06-49C0-96AD-7C00B6E8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CEF01-1958-48AE-ADFF-436A75C5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ED0A2-10DE-41FE-9B3F-08816A26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5A23F-280C-4D14-9FE8-C2215A7E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2572B-505E-4BD5-875F-5D31DC08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A7A96-EE84-4147-AE72-CDC0117AD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3926C-EF00-45CF-ABDF-5DB6AF2B7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3216F7-8B69-407A-A7FE-2CBAD047B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E0C188-2B59-4FAF-9C01-52F9C4F5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88C9D1-116C-4A5B-8D52-CE406F36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74D7-ADFC-4A25-874E-DDE18561B684}" type="slidenum">
              <a:rPr b="0" lang="en-A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3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D839-260C-4412-A3F8-A4BD974FC6F8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48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1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sldNum" idx="32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0A0A-3821-433F-80AF-E76CBF091F96}" type="slidenum">
              <a:rPr b="0" lang="en-A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ftr" idx="33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92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4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4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5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FF44-1DFD-4386-8AFC-1E15A35B11B9}" type="slidenum">
              <a:rPr b="0" lang="en-A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7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sldNum" idx="38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2106-259B-48E8-9406-5A30429F2182}" type="slidenum">
              <a:rPr b="0" lang="en-A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ftr" idx="39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57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40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4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42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843D-FD33-4219-B0F2-64CA4643A990}" type="slidenum">
              <a:rPr b="0" lang="en-A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624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6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4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4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4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97C7-42F1-44D7-A909-8A307129CCEE}" type="slidenum">
              <a:rPr b="0" lang="en-A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9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670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2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dt" idx="4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ftr" idx="4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sldNum" idx="48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DFD1-5C8A-437A-82CA-DA6372D8377A}" type="slidenum">
              <a:rPr b="0" lang="en-A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49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sldNum" idx="50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2FF2-A066-4D6F-8B2E-FB10B8193B77}" type="slidenum">
              <a:rPr b="0" lang="en-A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ftr" idx="51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 type="dt" idx="52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 type="sldNum" idx="53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78A2-262E-4320-B49F-FC6B2CD071C9}" type="slidenum">
              <a:rPr b="0" lang="en-A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 type="ftr" idx="54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5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5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57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3709-B9C0-4968-B4D8-0D5C45FD654D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CD55-D816-4BAE-862A-F4A1A856CDFE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5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5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60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7B8A-EB54-4545-B3AF-E754E8D37777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 type="ftr" idx="6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 type="dt" idx="6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 type="sldNum" idx="63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8ADB-0343-4A4F-B779-3C36830E3C3A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 type="dt" idx="64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 type="ftr" idx="6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 type="sldNum" idx="66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3629-23E0-49A9-A52A-3CC37827A75E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 type="dt" idx="6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 type="ftr" idx="68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 type="sldNum" idx="69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1FCB-AFCE-4EF8-8AE1-1EE23A22C249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 type="dt" idx="70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 type="ftr" idx="7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 type="sldNum" idx="72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4240-90AC-4813-9A9E-2B7C787A1D35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 type="dt" idx="7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 type="ftr" idx="7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 type="sldNum" idx="75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F8C8-EEDB-4D08-B236-39328031CBBC}" type="slidenum">
              <a:rPr b="0" lang="en-A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 type="sldNum" idx="76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E2D5-61CB-44E0-8889-DC548704B4FC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 type="dt" idx="7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 type="ftr" idx="78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 type="sldNum" idx="79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5525-052E-486E-A5BC-BC024B055E73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 type="dt" idx="80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5"/>
          <p:cNvSpPr>
            <a:spLocks noGrp="1"/>
          </p:cNvSpPr>
          <p:nvPr>
            <p:ph type="ftr" idx="81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 type="dt" idx="8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 type="ftr" idx="8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 type="sldNum" idx="84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C14C-A6BA-4F46-BBC9-4A93BAB9BCCD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sldNum" idx="85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655C-6D16-425B-B8E2-86D713CD1C82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dt" idx="8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ftr" idx="87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5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ftr" idx="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8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B84E-C07F-4B4B-8946-42843D1EF7F2}" type="slidenum">
              <a:rPr b="0" lang="en-A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 type="dt" idx="88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 type="ftr" idx="89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 type="sldNum" idx="90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32C3-59F3-4AC3-8C3D-1A36DE2ECD5D}" type="slidenum">
              <a:rPr b="0" lang="en-A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 type="dt" idx="9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 type="ftr" idx="9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 type="sldNum" idx="9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D7C5-E0C9-45CE-A0ED-9CB71A4F07CB}" type="slidenum">
              <a:rPr b="0" lang="en-A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 type="dt" idx="9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 type="ftr" idx="9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 type="sldNum" idx="9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6502-DC0B-45EE-9144-82891302EFF6}" type="slidenum">
              <a:rPr b="0" lang="en-A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 type="dt" idx="9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 type="ftr" idx="9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5"/>
          <p:cNvSpPr>
            <a:spLocks noGrp="1"/>
          </p:cNvSpPr>
          <p:nvPr>
            <p:ph type="sldNum" idx="9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C91A-DB24-4D99-81FE-F97FF013C7F1}" type="slidenum">
              <a:rPr b="0" lang="en-A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 type="dt" idx="100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 type="ftr" idx="101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5"/>
          <p:cNvSpPr>
            <a:spLocks noGrp="1"/>
          </p:cNvSpPr>
          <p:nvPr>
            <p:ph type="sldNum" idx="102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3E35-611A-41D9-874B-0A7D9F8DD7E3}" type="slidenum">
              <a:rPr b="0" lang="en-A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 type="dt" idx="10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 type="ftr" idx="104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5"/>
          <p:cNvSpPr>
            <a:spLocks noGrp="1"/>
          </p:cNvSpPr>
          <p:nvPr>
            <p:ph type="sldNum" idx="10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028C-FA11-485E-9AD3-DBF2EF35FA6A}" type="slidenum">
              <a:rPr b="0" lang="en-A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dt" idx="10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ftr" idx="1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12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00AB-E1AA-4F89-BE42-EB2FF27153C4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6CD3-1AF0-4F34-A4FA-645FE60182B7}" type="slidenum">
              <a:rPr b="0" lang="en-A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C20B-F7C5-43C7-9FB3-CBAE404E47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760E-E1F4-4D95-BF5A-28BD27038505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9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310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2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3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4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2067-EC38-467A-A87A-861FE7B6AC4B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923C-007B-4E2F-AD21-AB42C885D400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Franklin Gothic Book"/>
              </a:rPr>
              <a:t>CYCLING OF CARBON ATOM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bon 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Freeform 3"/>
          <p:cNvSpPr/>
          <p:nvPr/>
        </p:nvSpPr>
        <p:spPr>
          <a:xfrm>
            <a:off x="1211400" y="3809880"/>
            <a:ext cx="7932600" cy="2806920"/>
          </a:xfrm>
          <a:prstGeom prst="pie">
            <a:avLst/>
          </a:prstGeom>
          <a:solidFill>
            <a:srgbClr val="d2a9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Freeform 4"/>
          <p:cNvSpPr/>
          <p:nvPr/>
        </p:nvSpPr>
        <p:spPr>
          <a:xfrm>
            <a:off x="0" y="5181480"/>
            <a:ext cx="5486400" cy="1447920"/>
          </a:xfrm>
          <a:prstGeom prst="pie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AutoShape 5"/>
          <p:cNvSpPr/>
          <p:nvPr/>
        </p:nvSpPr>
        <p:spPr>
          <a:xfrm>
            <a:off x="2209680" y="1676520"/>
            <a:ext cx="1828800" cy="1066680"/>
          </a:xfrm>
          <a:prstGeom prst="cloudCallout">
            <a:avLst>
              <a:gd name="adj1" fmla="val -46875"/>
              <a:gd name="adj2" fmla="val 1860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4" name="AutoShape 6"/>
          <p:cNvSpPr/>
          <p:nvPr/>
        </p:nvSpPr>
        <p:spPr>
          <a:xfrm>
            <a:off x="685800" y="1828800"/>
            <a:ext cx="1828800" cy="1066680"/>
          </a:xfrm>
          <a:prstGeom prst="cloudCallout">
            <a:avLst>
              <a:gd name="adj1" fmla="val -46875"/>
              <a:gd name="adj2" fmla="val 1860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95" name="Group 7"/>
          <p:cNvGrpSpPr/>
          <p:nvPr/>
        </p:nvGrpSpPr>
        <p:grpSpPr>
          <a:xfrm>
            <a:off x="7010280" y="2666880"/>
            <a:ext cx="762120" cy="1600200"/>
            <a:chOff x="7010280" y="2666880"/>
            <a:chExt cx="762120" cy="1600200"/>
          </a:xfrm>
        </p:grpSpPr>
        <p:sp>
          <p:nvSpPr>
            <p:cNvPr id="1696" name="Rectangle 8"/>
            <p:cNvSpPr/>
            <p:nvPr/>
          </p:nvSpPr>
          <p:spPr>
            <a:xfrm>
              <a:off x="7315200" y="3429000"/>
              <a:ext cx="152280" cy="838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7" name="AutoShape 9"/>
            <p:cNvSpPr/>
            <p:nvPr/>
          </p:nvSpPr>
          <p:spPr>
            <a:xfrm>
              <a:off x="7010280" y="2666880"/>
              <a:ext cx="762120" cy="1067040"/>
            </a:xfrm>
            <a:prstGeom prst="cloudCallout">
              <a:avLst>
                <a:gd name="adj1" fmla="val 3333"/>
                <a:gd name="adj2" fmla="val 12055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8" name="Group 10"/>
          <p:cNvGrpSpPr/>
          <p:nvPr/>
        </p:nvGrpSpPr>
        <p:grpSpPr>
          <a:xfrm>
            <a:off x="7315200" y="2590920"/>
            <a:ext cx="762120" cy="1600200"/>
            <a:chOff x="7315200" y="2590920"/>
            <a:chExt cx="762120" cy="1600200"/>
          </a:xfrm>
        </p:grpSpPr>
        <p:sp>
          <p:nvSpPr>
            <p:cNvPr id="1699" name="Rectangle 11"/>
            <p:cNvSpPr/>
            <p:nvPr/>
          </p:nvSpPr>
          <p:spPr>
            <a:xfrm>
              <a:off x="7620120" y="3353040"/>
              <a:ext cx="152280" cy="838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0" name="AutoShape 12"/>
            <p:cNvSpPr/>
            <p:nvPr/>
          </p:nvSpPr>
          <p:spPr>
            <a:xfrm>
              <a:off x="7315200" y="2590920"/>
              <a:ext cx="762120" cy="1067040"/>
            </a:xfrm>
            <a:prstGeom prst="cloudCallout">
              <a:avLst>
                <a:gd name="adj1" fmla="val 3333"/>
                <a:gd name="adj2" fmla="val 12055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1" name="Group 13"/>
          <p:cNvGrpSpPr/>
          <p:nvPr/>
        </p:nvGrpSpPr>
        <p:grpSpPr>
          <a:xfrm>
            <a:off x="7620120" y="2514600"/>
            <a:ext cx="761760" cy="1600200"/>
            <a:chOff x="7620120" y="2514600"/>
            <a:chExt cx="761760" cy="1600200"/>
          </a:xfrm>
        </p:grpSpPr>
        <p:sp>
          <p:nvSpPr>
            <p:cNvPr id="1702" name="Rectangle 14"/>
            <p:cNvSpPr/>
            <p:nvPr/>
          </p:nvSpPr>
          <p:spPr>
            <a:xfrm>
              <a:off x="7924680" y="3276720"/>
              <a:ext cx="151920" cy="838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3" name="AutoShape 15"/>
            <p:cNvSpPr/>
            <p:nvPr/>
          </p:nvSpPr>
          <p:spPr>
            <a:xfrm>
              <a:off x="7620120" y="2514600"/>
              <a:ext cx="761760" cy="1067040"/>
            </a:xfrm>
            <a:prstGeom prst="cloudCallout">
              <a:avLst>
                <a:gd name="adj1" fmla="val 3333"/>
                <a:gd name="adj2" fmla="val 12055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4" name="Group 16"/>
          <p:cNvGrpSpPr/>
          <p:nvPr/>
        </p:nvGrpSpPr>
        <p:grpSpPr>
          <a:xfrm>
            <a:off x="7924680" y="2438280"/>
            <a:ext cx="762120" cy="1600200"/>
            <a:chOff x="7924680" y="2438280"/>
            <a:chExt cx="762120" cy="1600200"/>
          </a:xfrm>
        </p:grpSpPr>
        <p:sp>
          <p:nvSpPr>
            <p:cNvPr id="1705" name="Rectangle 17"/>
            <p:cNvSpPr/>
            <p:nvPr/>
          </p:nvSpPr>
          <p:spPr>
            <a:xfrm>
              <a:off x="8229600" y="3200400"/>
              <a:ext cx="152280" cy="838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6" name="AutoShape 18"/>
            <p:cNvSpPr/>
            <p:nvPr/>
          </p:nvSpPr>
          <p:spPr>
            <a:xfrm>
              <a:off x="7924680" y="2438280"/>
              <a:ext cx="762120" cy="1067040"/>
            </a:xfrm>
            <a:prstGeom prst="cloudCallout">
              <a:avLst>
                <a:gd name="adj1" fmla="val 3333"/>
                <a:gd name="adj2" fmla="val 12055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7" name="Group 19"/>
          <p:cNvGrpSpPr/>
          <p:nvPr/>
        </p:nvGrpSpPr>
        <p:grpSpPr>
          <a:xfrm>
            <a:off x="8229600" y="2362320"/>
            <a:ext cx="762120" cy="1600200"/>
            <a:chOff x="8229600" y="2362320"/>
            <a:chExt cx="762120" cy="1600200"/>
          </a:xfrm>
        </p:grpSpPr>
        <p:sp>
          <p:nvSpPr>
            <p:cNvPr id="1708" name="Rectangle 20"/>
            <p:cNvSpPr/>
            <p:nvPr/>
          </p:nvSpPr>
          <p:spPr>
            <a:xfrm>
              <a:off x="8534520" y="3124440"/>
              <a:ext cx="152280" cy="838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9" name="AutoShape 21"/>
            <p:cNvSpPr/>
            <p:nvPr/>
          </p:nvSpPr>
          <p:spPr>
            <a:xfrm>
              <a:off x="8229600" y="2362320"/>
              <a:ext cx="762120" cy="1067040"/>
            </a:xfrm>
            <a:prstGeom prst="cloudCallout">
              <a:avLst>
                <a:gd name="adj1" fmla="val 3333"/>
                <a:gd name="adj2" fmla="val 12055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10" name="Rectangle 22"/>
          <p:cNvSpPr/>
          <p:nvPr/>
        </p:nvSpPr>
        <p:spPr>
          <a:xfrm>
            <a:off x="4438800" y="1752480"/>
            <a:ext cx="13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tmosp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Rectangle 23"/>
          <p:cNvSpPr/>
          <p:nvPr/>
        </p:nvSpPr>
        <p:spPr>
          <a:xfrm>
            <a:off x="881640" y="563868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ydrosp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Rectangle 24"/>
          <p:cNvSpPr/>
          <p:nvPr/>
        </p:nvSpPr>
        <p:spPr>
          <a:xfrm>
            <a:off x="7027920" y="54100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thosp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Rectangle 25"/>
          <p:cNvSpPr/>
          <p:nvPr/>
        </p:nvSpPr>
        <p:spPr>
          <a:xfrm>
            <a:off x="7383240" y="281952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osp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AutoShape 26"/>
          <p:cNvSpPr/>
          <p:nvPr/>
        </p:nvSpPr>
        <p:spPr>
          <a:xfrm>
            <a:off x="3124080" y="5410080"/>
            <a:ext cx="1067040" cy="228600"/>
          </a:xfrm>
          <a:prstGeom prst="cloudCallout">
            <a:avLst>
              <a:gd name="adj1" fmla="val 7439"/>
              <a:gd name="adj2" fmla="val 13194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15" name="Group 44"/>
          <p:cNvGrpSpPr/>
          <p:nvPr/>
        </p:nvGrpSpPr>
        <p:grpSpPr>
          <a:xfrm>
            <a:off x="5410080" y="2209680"/>
            <a:ext cx="2183760" cy="1067040"/>
            <a:chOff x="5410080" y="2209680"/>
            <a:chExt cx="2183760" cy="1067040"/>
          </a:xfrm>
        </p:grpSpPr>
        <p:sp>
          <p:nvSpPr>
            <p:cNvPr id="1716" name="Line 29"/>
            <p:cNvSpPr/>
            <p:nvPr/>
          </p:nvSpPr>
          <p:spPr>
            <a:xfrm flipH="1" flipV="1">
              <a:off x="5410080" y="2209680"/>
              <a:ext cx="1905120" cy="10670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7" name="Rectangle 34"/>
            <p:cNvSpPr/>
            <p:nvPr/>
          </p:nvSpPr>
          <p:spPr>
            <a:xfrm>
              <a:off x="6160320" y="2362320"/>
              <a:ext cx="14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hotosynthesi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18" name="Group 43"/>
          <p:cNvGrpSpPr/>
          <p:nvPr/>
        </p:nvGrpSpPr>
        <p:grpSpPr>
          <a:xfrm>
            <a:off x="6095880" y="1828800"/>
            <a:ext cx="2590920" cy="838080"/>
            <a:chOff x="6095880" y="1828800"/>
            <a:chExt cx="2590920" cy="838080"/>
          </a:xfrm>
        </p:grpSpPr>
        <p:sp>
          <p:nvSpPr>
            <p:cNvPr id="1719" name="Line 27"/>
            <p:cNvSpPr/>
            <p:nvPr/>
          </p:nvSpPr>
          <p:spPr>
            <a:xfrm>
              <a:off x="6095880" y="1905120"/>
              <a:ext cx="2590920" cy="7617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0" name="Rectangle 35"/>
            <p:cNvSpPr/>
            <p:nvPr/>
          </p:nvSpPr>
          <p:spPr>
            <a:xfrm>
              <a:off x="6870240" y="1828800"/>
              <a:ext cx="180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Respiration&amp; Deca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bon 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Freeform 3"/>
          <p:cNvSpPr/>
          <p:nvPr/>
        </p:nvSpPr>
        <p:spPr>
          <a:xfrm>
            <a:off x="1211400" y="3809880"/>
            <a:ext cx="7932600" cy="2806920"/>
          </a:xfrm>
          <a:prstGeom prst="pie">
            <a:avLst/>
          </a:prstGeom>
          <a:solidFill>
            <a:srgbClr val="d2a9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Freeform 4"/>
          <p:cNvSpPr/>
          <p:nvPr/>
        </p:nvSpPr>
        <p:spPr>
          <a:xfrm>
            <a:off x="0" y="5181480"/>
            <a:ext cx="5486400" cy="1447920"/>
          </a:xfrm>
          <a:prstGeom prst="pie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AutoShape 5"/>
          <p:cNvSpPr/>
          <p:nvPr/>
        </p:nvSpPr>
        <p:spPr>
          <a:xfrm>
            <a:off x="2209680" y="1676520"/>
            <a:ext cx="1828800" cy="1066680"/>
          </a:xfrm>
          <a:prstGeom prst="cloudCallout">
            <a:avLst>
              <a:gd name="adj1" fmla="val -46875"/>
              <a:gd name="adj2" fmla="val 1860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AutoShape 6"/>
          <p:cNvSpPr/>
          <p:nvPr/>
        </p:nvSpPr>
        <p:spPr>
          <a:xfrm>
            <a:off x="685800" y="1828800"/>
            <a:ext cx="1828800" cy="1066680"/>
          </a:xfrm>
          <a:prstGeom prst="cloudCallout">
            <a:avLst>
              <a:gd name="adj1" fmla="val -46875"/>
              <a:gd name="adj2" fmla="val 1860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6" name="Group 7"/>
          <p:cNvGrpSpPr/>
          <p:nvPr/>
        </p:nvGrpSpPr>
        <p:grpSpPr>
          <a:xfrm>
            <a:off x="7010280" y="2666880"/>
            <a:ext cx="762120" cy="1600200"/>
            <a:chOff x="7010280" y="2666880"/>
            <a:chExt cx="762120" cy="1600200"/>
          </a:xfrm>
        </p:grpSpPr>
        <p:sp>
          <p:nvSpPr>
            <p:cNvPr id="1727" name="Rectangle 8"/>
            <p:cNvSpPr/>
            <p:nvPr/>
          </p:nvSpPr>
          <p:spPr>
            <a:xfrm>
              <a:off x="7315200" y="3429000"/>
              <a:ext cx="152280" cy="838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8" name="AutoShape 9"/>
            <p:cNvSpPr/>
            <p:nvPr/>
          </p:nvSpPr>
          <p:spPr>
            <a:xfrm>
              <a:off x="7010280" y="2666880"/>
              <a:ext cx="762120" cy="1067040"/>
            </a:xfrm>
            <a:prstGeom prst="cloudCallout">
              <a:avLst>
                <a:gd name="adj1" fmla="val 3333"/>
                <a:gd name="adj2" fmla="val 12055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29" name="Group 10"/>
          <p:cNvGrpSpPr/>
          <p:nvPr/>
        </p:nvGrpSpPr>
        <p:grpSpPr>
          <a:xfrm>
            <a:off x="7315200" y="2590920"/>
            <a:ext cx="762120" cy="1600200"/>
            <a:chOff x="7315200" y="2590920"/>
            <a:chExt cx="762120" cy="1600200"/>
          </a:xfrm>
        </p:grpSpPr>
        <p:sp>
          <p:nvSpPr>
            <p:cNvPr id="1730" name="Rectangle 11"/>
            <p:cNvSpPr/>
            <p:nvPr/>
          </p:nvSpPr>
          <p:spPr>
            <a:xfrm>
              <a:off x="7620120" y="3353040"/>
              <a:ext cx="152280" cy="838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1" name="AutoShape 12"/>
            <p:cNvSpPr/>
            <p:nvPr/>
          </p:nvSpPr>
          <p:spPr>
            <a:xfrm>
              <a:off x="7315200" y="2590920"/>
              <a:ext cx="762120" cy="1067040"/>
            </a:xfrm>
            <a:prstGeom prst="cloudCallout">
              <a:avLst>
                <a:gd name="adj1" fmla="val 3333"/>
                <a:gd name="adj2" fmla="val 12055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2" name="Group 13"/>
          <p:cNvGrpSpPr/>
          <p:nvPr/>
        </p:nvGrpSpPr>
        <p:grpSpPr>
          <a:xfrm>
            <a:off x="7620120" y="2514600"/>
            <a:ext cx="761760" cy="1600200"/>
            <a:chOff x="7620120" y="2514600"/>
            <a:chExt cx="761760" cy="1600200"/>
          </a:xfrm>
        </p:grpSpPr>
        <p:sp>
          <p:nvSpPr>
            <p:cNvPr id="1733" name="Rectangle 14"/>
            <p:cNvSpPr/>
            <p:nvPr/>
          </p:nvSpPr>
          <p:spPr>
            <a:xfrm>
              <a:off x="7924680" y="3276720"/>
              <a:ext cx="151920" cy="838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4" name="AutoShape 15"/>
            <p:cNvSpPr/>
            <p:nvPr/>
          </p:nvSpPr>
          <p:spPr>
            <a:xfrm>
              <a:off x="7620120" y="2514600"/>
              <a:ext cx="761760" cy="1067040"/>
            </a:xfrm>
            <a:prstGeom prst="cloudCallout">
              <a:avLst>
                <a:gd name="adj1" fmla="val 3333"/>
                <a:gd name="adj2" fmla="val 12055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5" name="Group 16"/>
          <p:cNvGrpSpPr/>
          <p:nvPr/>
        </p:nvGrpSpPr>
        <p:grpSpPr>
          <a:xfrm>
            <a:off x="7924680" y="2438280"/>
            <a:ext cx="762120" cy="1600200"/>
            <a:chOff x="7924680" y="2438280"/>
            <a:chExt cx="762120" cy="1600200"/>
          </a:xfrm>
        </p:grpSpPr>
        <p:sp>
          <p:nvSpPr>
            <p:cNvPr id="1736" name="Rectangle 17"/>
            <p:cNvSpPr/>
            <p:nvPr/>
          </p:nvSpPr>
          <p:spPr>
            <a:xfrm>
              <a:off x="8229600" y="3200400"/>
              <a:ext cx="152280" cy="838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7" name="AutoShape 18"/>
            <p:cNvSpPr/>
            <p:nvPr/>
          </p:nvSpPr>
          <p:spPr>
            <a:xfrm>
              <a:off x="7924680" y="2438280"/>
              <a:ext cx="762120" cy="1067040"/>
            </a:xfrm>
            <a:prstGeom prst="cloudCallout">
              <a:avLst>
                <a:gd name="adj1" fmla="val 3333"/>
                <a:gd name="adj2" fmla="val 12055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8" name="Group 19"/>
          <p:cNvGrpSpPr/>
          <p:nvPr/>
        </p:nvGrpSpPr>
        <p:grpSpPr>
          <a:xfrm>
            <a:off x="8229600" y="2362320"/>
            <a:ext cx="762120" cy="1600200"/>
            <a:chOff x="8229600" y="2362320"/>
            <a:chExt cx="762120" cy="1600200"/>
          </a:xfrm>
        </p:grpSpPr>
        <p:sp>
          <p:nvSpPr>
            <p:cNvPr id="1739" name="Rectangle 20"/>
            <p:cNvSpPr/>
            <p:nvPr/>
          </p:nvSpPr>
          <p:spPr>
            <a:xfrm>
              <a:off x="8534520" y="3124440"/>
              <a:ext cx="152280" cy="838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0" name="AutoShape 21"/>
            <p:cNvSpPr/>
            <p:nvPr/>
          </p:nvSpPr>
          <p:spPr>
            <a:xfrm>
              <a:off x="8229600" y="2362320"/>
              <a:ext cx="762120" cy="1067040"/>
            </a:xfrm>
            <a:prstGeom prst="cloudCallout">
              <a:avLst>
                <a:gd name="adj1" fmla="val 3333"/>
                <a:gd name="adj2" fmla="val 12055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41" name="Rectangle 22"/>
          <p:cNvSpPr/>
          <p:nvPr/>
        </p:nvSpPr>
        <p:spPr>
          <a:xfrm>
            <a:off x="4438800" y="1752480"/>
            <a:ext cx="13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tmosp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Rectangle 23"/>
          <p:cNvSpPr/>
          <p:nvPr/>
        </p:nvSpPr>
        <p:spPr>
          <a:xfrm>
            <a:off x="881640" y="563868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ydrosp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Rectangle 24"/>
          <p:cNvSpPr/>
          <p:nvPr/>
        </p:nvSpPr>
        <p:spPr>
          <a:xfrm>
            <a:off x="7027920" y="54100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thosp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Rectangle 25"/>
          <p:cNvSpPr/>
          <p:nvPr/>
        </p:nvSpPr>
        <p:spPr>
          <a:xfrm>
            <a:off x="7383240" y="281952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osp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AutoShape 26"/>
          <p:cNvSpPr/>
          <p:nvPr/>
        </p:nvSpPr>
        <p:spPr>
          <a:xfrm>
            <a:off x="3124080" y="5410080"/>
            <a:ext cx="1067040" cy="228600"/>
          </a:xfrm>
          <a:prstGeom prst="cloudCallout">
            <a:avLst>
              <a:gd name="adj1" fmla="val 7439"/>
              <a:gd name="adj2" fmla="val 13194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46" name="Group 27"/>
          <p:cNvGrpSpPr/>
          <p:nvPr/>
        </p:nvGrpSpPr>
        <p:grpSpPr>
          <a:xfrm>
            <a:off x="5410080" y="2209680"/>
            <a:ext cx="2183760" cy="1067040"/>
            <a:chOff x="5410080" y="2209680"/>
            <a:chExt cx="2183760" cy="1067040"/>
          </a:xfrm>
        </p:grpSpPr>
        <p:sp>
          <p:nvSpPr>
            <p:cNvPr id="1747" name="Line 28"/>
            <p:cNvSpPr/>
            <p:nvPr/>
          </p:nvSpPr>
          <p:spPr>
            <a:xfrm flipH="1" flipV="1">
              <a:off x="5410080" y="2209680"/>
              <a:ext cx="1905120" cy="10670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8" name="Rectangle 29"/>
            <p:cNvSpPr/>
            <p:nvPr/>
          </p:nvSpPr>
          <p:spPr>
            <a:xfrm>
              <a:off x="6160320" y="2362320"/>
              <a:ext cx="14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hotosynthesi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49" name="Group 30"/>
          <p:cNvGrpSpPr/>
          <p:nvPr/>
        </p:nvGrpSpPr>
        <p:grpSpPr>
          <a:xfrm>
            <a:off x="6095880" y="1828800"/>
            <a:ext cx="2590920" cy="838080"/>
            <a:chOff x="6095880" y="1828800"/>
            <a:chExt cx="2590920" cy="838080"/>
          </a:xfrm>
        </p:grpSpPr>
        <p:sp>
          <p:nvSpPr>
            <p:cNvPr id="1750" name="Line 31"/>
            <p:cNvSpPr/>
            <p:nvPr/>
          </p:nvSpPr>
          <p:spPr>
            <a:xfrm>
              <a:off x="6095880" y="1905120"/>
              <a:ext cx="2590920" cy="7617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1" name="Rectangle 32"/>
            <p:cNvSpPr/>
            <p:nvPr/>
          </p:nvSpPr>
          <p:spPr>
            <a:xfrm>
              <a:off x="6870240" y="1828800"/>
              <a:ext cx="180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Respiration&amp; Deca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2" name="Group 33"/>
          <p:cNvGrpSpPr/>
          <p:nvPr/>
        </p:nvGrpSpPr>
        <p:grpSpPr>
          <a:xfrm>
            <a:off x="7619760" y="3352680"/>
            <a:ext cx="1499760" cy="2133720"/>
            <a:chOff x="7619760" y="3352680"/>
            <a:chExt cx="1499760" cy="2133720"/>
          </a:xfrm>
        </p:grpSpPr>
        <p:sp>
          <p:nvSpPr>
            <p:cNvPr id="1753" name="Line 34"/>
            <p:cNvSpPr/>
            <p:nvPr/>
          </p:nvSpPr>
          <p:spPr>
            <a:xfrm flipH="1">
              <a:off x="7619760" y="3352680"/>
              <a:ext cx="609480" cy="21337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4" name="Rectangle 35"/>
            <p:cNvSpPr/>
            <p:nvPr/>
          </p:nvSpPr>
          <p:spPr>
            <a:xfrm>
              <a:off x="7967880" y="4648320"/>
              <a:ext cx="1151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Burial &amp;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Lithific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5" name="Group 36"/>
          <p:cNvGrpSpPr/>
          <p:nvPr/>
        </p:nvGrpSpPr>
        <p:grpSpPr>
          <a:xfrm>
            <a:off x="4833720" y="2286000"/>
            <a:ext cx="1947960" cy="3200400"/>
            <a:chOff x="4833720" y="2286000"/>
            <a:chExt cx="1947960" cy="3200400"/>
          </a:xfrm>
        </p:grpSpPr>
        <p:sp>
          <p:nvSpPr>
            <p:cNvPr id="1756" name="Line 37"/>
            <p:cNvSpPr/>
            <p:nvPr/>
          </p:nvSpPr>
          <p:spPr>
            <a:xfrm flipH="1" flipV="1">
              <a:off x="4952880" y="2286000"/>
              <a:ext cx="1828800" cy="32004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7" name="Rectangle 38"/>
            <p:cNvSpPr/>
            <p:nvPr/>
          </p:nvSpPr>
          <p:spPr>
            <a:xfrm>
              <a:off x="4833720" y="3990960"/>
              <a:ext cx="1211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Weather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&amp; Volcanis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8" name="Group 39"/>
          <p:cNvGrpSpPr/>
          <p:nvPr/>
        </p:nvGrpSpPr>
        <p:grpSpPr>
          <a:xfrm>
            <a:off x="1792440" y="2286000"/>
            <a:ext cx="2855880" cy="3200400"/>
            <a:chOff x="1792440" y="2286000"/>
            <a:chExt cx="2855880" cy="3200400"/>
          </a:xfrm>
        </p:grpSpPr>
        <p:sp>
          <p:nvSpPr>
            <p:cNvPr id="1759" name="Line 40"/>
            <p:cNvSpPr/>
            <p:nvPr/>
          </p:nvSpPr>
          <p:spPr>
            <a:xfrm flipH="1">
              <a:off x="1905120" y="2286000"/>
              <a:ext cx="2743200" cy="32004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0" name="Rectangle 41"/>
            <p:cNvSpPr/>
            <p:nvPr/>
          </p:nvSpPr>
          <p:spPr>
            <a:xfrm>
              <a:off x="1792440" y="3962520"/>
              <a:ext cx="109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Dissolu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1" name="Group 42"/>
          <p:cNvGrpSpPr/>
          <p:nvPr/>
        </p:nvGrpSpPr>
        <p:grpSpPr>
          <a:xfrm>
            <a:off x="2438280" y="5486040"/>
            <a:ext cx="1802520" cy="458280"/>
            <a:chOff x="2438280" y="5486040"/>
            <a:chExt cx="1802520" cy="458280"/>
          </a:xfrm>
        </p:grpSpPr>
        <p:sp>
          <p:nvSpPr>
            <p:cNvPr id="1762" name="Line 43"/>
            <p:cNvSpPr/>
            <p:nvPr/>
          </p:nvSpPr>
          <p:spPr>
            <a:xfrm flipV="1">
              <a:off x="2438280" y="5486040"/>
              <a:ext cx="1067040" cy="2286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3" name="Rectangle 44"/>
            <p:cNvSpPr/>
            <p:nvPr/>
          </p:nvSpPr>
          <p:spPr>
            <a:xfrm>
              <a:off x="2807280" y="5607000"/>
              <a:ext cx="14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2009b"/>
                  </a:solidFill>
                  <a:latin typeface="Calibri"/>
                </a:rPr>
                <a:t>Photosynthesi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4" name="Group 45"/>
          <p:cNvGrpSpPr/>
          <p:nvPr/>
        </p:nvGrpSpPr>
        <p:grpSpPr>
          <a:xfrm>
            <a:off x="3657600" y="5486400"/>
            <a:ext cx="3048120" cy="961560"/>
            <a:chOff x="3657600" y="5486400"/>
            <a:chExt cx="3048120" cy="961560"/>
          </a:xfrm>
        </p:grpSpPr>
        <p:sp>
          <p:nvSpPr>
            <p:cNvPr id="1765" name="Line 46"/>
            <p:cNvSpPr/>
            <p:nvPr/>
          </p:nvSpPr>
          <p:spPr>
            <a:xfrm>
              <a:off x="3657600" y="5486400"/>
              <a:ext cx="3048120" cy="5335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6" name="Rectangle 47"/>
            <p:cNvSpPr/>
            <p:nvPr/>
          </p:nvSpPr>
          <p:spPr>
            <a:xfrm>
              <a:off x="5053320" y="5867280"/>
              <a:ext cx="1151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Burial &amp;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Lithific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7" name="Group 48"/>
          <p:cNvGrpSpPr/>
          <p:nvPr/>
        </p:nvGrpSpPr>
        <p:grpSpPr>
          <a:xfrm>
            <a:off x="2057400" y="2438280"/>
            <a:ext cx="2743200" cy="3200400"/>
            <a:chOff x="2057400" y="2438280"/>
            <a:chExt cx="2743200" cy="3200400"/>
          </a:xfrm>
        </p:grpSpPr>
        <p:sp>
          <p:nvSpPr>
            <p:cNvPr id="1768" name="Line 49"/>
            <p:cNvSpPr/>
            <p:nvPr/>
          </p:nvSpPr>
          <p:spPr>
            <a:xfrm flipH="1">
              <a:off x="2057400" y="2438280"/>
              <a:ext cx="2743200" cy="32004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9" name="Rectangle 50"/>
            <p:cNvSpPr/>
            <p:nvPr/>
          </p:nvSpPr>
          <p:spPr>
            <a:xfrm>
              <a:off x="3133080" y="4387680"/>
              <a:ext cx="103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xsolu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bon 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Freeform 3"/>
          <p:cNvSpPr/>
          <p:nvPr/>
        </p:nvSpPr>
        <p:spPr>
          <a:xfrm>
            <a:off x="1211400" y="3809880"/>
            <a:ext cx="7932600" cy="2806920"/>
          </a:xfrm>
          <a:prstGeom prst="pie">
            <a:avLst/>
          </a:prstGeom>
          <a:solidFill>
            <a:srgbClr val="d2a9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2" name="Freeform 4"/>
          <p:cNvSpPr/>
          <p:nvPr/>
        </p:nvSpPr>
        <p:spPr>
          <a:xfrm>
            <a:off x="0" y="5181480"/>
            <a:ext cx="5486400" cy="1447920"/>
          </a:xfrm>
          <a:prstGeom prst="pie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AutoShape 5"/>
          <p:cNvSpPr/>
          <p:nvPr/>
        </p:nvSpPr>
        <p:spPr>
          <a:xfrm>
            <a:off x="2209680" y="1676520"/>
            <a:ext cx="1828800" cy="1066680"/>
          </a:xfrm>
          <a:prstGeom prst="cloudCallout">
            <a:avLst>
              <a:gd name="adj1" fmla="val -46875"/>
              <a:gd name="adj2" fmla="val 1860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AutoShape 6"/>
          <p:cNvSpPr/>
          <p:nvPr/>
        </p:nvSpPr>
        <p:spPr>
          <a:xfrm>
            <a:off x="685800" y="1828800"/>
            <a:ext cx="1828800" cy="1066680"/>
          </a:xfrm>
          <a:prstGeom prst="cloudCallout">
            <a:avLst>
              <a:gd name="adj1" fmla="val -46875"/>
              <a:gd name="adj2" fmla="val 1860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5" name="Rectangle 8"/>
          <p:cNvSpPr/>
          <p:nvPr/>
        </p:nvSpPr>
        <p:spPr>
          <a:xfrm>
            <a:off x="7315200" y="3429000"/>
            <a:ext cx="152280" cy="8380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6" name="AutoShape 9"/>
          <p:cNvSpPr/>
          <p:nvPr/>
        </p:nvSpPr>
        <p:spPr>
          <a:xfrm>
            <a:off x="7010280" y="2666880"/>
            <a:ext cx="762120" cy="1067040"/>
          </a:xfrm>
          <a:prstGeom prst="cloudCallout">
            <a:avLst>
              <a:gd name="adj1" fmla="val 3333"/>
              <a:gd name="adj2" fmla="val 12055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Rectangle 11"/>
          <p:cNvSpPr/>
          <p:nvPr/>
        </p:nvSpPr>
        <p:spPr>
          <a:xfrm>
            <a:off x="7620120" y="3352680"/>
            <a:ext cx="152280" cy="8384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AutoShape 12"/>
          <p:cNvSpPr/>
          <p:nvPr/>
        </p:nvSpPr>
        <p:spPr>
          <a:xfrm>
            <a:off x="7315200" y="2590920"/>
            <a:ext cx="762120" cy="1066680"/>
          </a:xfrm>
          <a:prstGeom prst="cloudCallout">
            <a:avLst>
              <a:gd name="adj1" fmla="val 3333"/>
              <a:gd name="adj2" fmla="val 12055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Rectangle 14"/>
          <p:cNvSpPr/>
          <p:nvPr/>
        </p:nvSpPr>
        <p:spPr>
          <a:xfrm>
            <a:off x="7924680" y="3276720"/>
            <a:ext cx="152640" cy="8380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AutoShape 15"/>
          <p:cNvSpPr/>
          <p:nvPr/>
        </p:nvSpPr>
        <p:spPr>
          <a:xfrm>
            <a:off x="7620120" y="2514600"/>
            <a:ext cx="761760" cy="1066680"/>
          </a:xfrm>
          <a:prstGeom prst="cloudCallout">
            <a:avLst>
              <a:gd name="adj1" fmla="val 3333"/>
              <a:gd name="adj2" fmla="val 12055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Rectangle 17"/>
          <p:cNvSpPr/>
          <p:nvPr/>
        </p:nvSpPr>
        <p:spPr>
          <a:xfrm>
            <a:off x="8229600" y="3200400"/>
            <a:ext cx="152280" cy="8380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AutoShape 18"/>
          <p:cNvSpPr/>
          <p:nvPr/>
        </p:nvSpPr>
        <p:spPr>
          <a:xfrm>
            <a:off x="7924680" y="2438280"/>
            <a:ext cx="762120" cy="1067040"/>
          </a:xfrm>
          <a:prstGeom prst="cloudCallout">
            <a:avLst>
              <a:gd name="adj1" fmla="val 3333"/>
              <a:gd name="adj2" fmla="val 12055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Rectangle 20"/>
          <p:cNvSpPr/>
          <p:nvPr/>
        </p:nvSpPr>
        <p:spPr>
          <a:xfrm>
            <a:off x="8534520" y="3124080"/>
            <a:ext cx="152280" cy="8384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AutoShape 21"/>
          <p:cNvSpPr/>
          <p:nvPr/>
        </p:nvSpPr>
        <p:spPr>
          <a:xfrm>
            <a:off x="8229600" y="2362320"/>
            <a:ext cx="762120" cy="1066680"/>
          </a:xfrm>
          <a:prstGeom prst="cloudCallout">
            <a:avLst>
              <a:gd name="adj1" fmla="val 3333"/>
              <a:gd name="adj2" fmla="val 12055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Rectangle 22"/>
          <p:cNvSpPr/>
          <p:nvPr/>
        </p:nvSpPr>
        <p:spPr>
          <a:xfrm>
            <a:off x="4438800" y="1752480"/>
            <a:ext cx="13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tmosp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Rectangle 23"/>
          <p:cNvSpPr/>
          <p:nvPr/>
        </p:nvSpPr>
        <p:spPr>
          <a:xfrm>
            <a:off x="881640" y="563868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ydrosp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Rectangle 24"/>
          <p:cNvSpPr/>
          <p:nvPr/>
        </p:nvSpPr>
        <p:spPr>
          <a:xfrm>
            <a:off x="7027920" y="54100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thosp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Rectangle 25"/>
          <p:cNvSpPr/>
          <p:nvPr/>
        </p:nvSpPr>
        <p:spPr>
          <a:xfrm>
            <a:off x="7383240" y="281952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osp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AutoShape 26"/>
          <p:cNvSpPr/>
          <p:nvPr/>
        </p:nvSpPr>
        <p:spPr>
          <a:xfrm>
            <a:off x="3124080" y="5410080"/>
            <a:ext cx="1067040" cy="228600"/>
          </a:xfrm>
          <a:prstGeom prst="cloudCallout">
            <a:avLst>
              <a:gd name="adj1" fmla="val 7439"/>
              <a:gd name="adj2" fmla="val 13194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Line 28"/>
          <p:cNvSpPr/>
          <p:nvPr/>
        </p:nvSpPr>
        <p:spPr>
          <a:xfrm flipH="1" flipV="1">
            <a:off x="5410080" y="2209680"/>
            <a:ext cx="1905120" cy="106704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Line 31"/>
          <p:cNvSpPr/>
          <p:nvPr/>
        </p:nvSpPr>
        <p:spPr>
          <a:xfrm>
            <a:off x="6095880" y="1905120"/>
            <a:ext cx="2590920" cy="76176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2" name="Line 34"/>
          <p:cNvSpPr/>
          <p:nvPr/>
        </p:nvSpPr>
        <p:spPr>
          <a:xfrm flipH="1">
            <a:off x="7619760" y="3352680"/>
            <a:ext cx="609480" cy="2133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Line 37"/>
          <p:cNvSpPr/>
          <p:nvPr/>
        </p:nvSpPr>
        <p:spPr>
          <a:xfrm flipH="1" flipV="1">
            <a:off x="4952880" y="2286000"/>
            <a:ext cx="1828800" cy="32004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Line 40"/>
          <p:cNvSpPr/>
          <p:nvPr/>
        </p:nvSpPr>
        <p:spPr>
          <a:xfrm flipH="1">
            <a:off x="1905120" y="2286000"/>
            <a:ext cx="2743200" cy="32004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Line 43"/>
          <p:cNvSpPr/>
          <p:nvPr/>
        </p:nvSpPr>
        <p:spPr>
          <a:xfrm flipV="1">
            <a:off x="2438280" y="5486040"/>
            <a:ext cx="1067040" cy="2286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Line 46"/>
          <p:cNvSpPr/>
          <p:nvPr/>
        </p:nvSpPr>
        <p:spPr>
          <a:xfrm>
            <a:off x="3657600" y="5486400"/>
            <a:ext cx="3048120" cy="5335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Line 49"/>
          <p:cNvSpPr/>
          <p:nvPr/>
        </p:nvSpPr>
        <p:spPr>
          <a:xfrm flipH="1">
            <a:off x="2057400" y="2438280"/>
            <a:ext cx="2743200" cy="320040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Rectangle 51"/>
          <p:cNvSpPr/>
          <p:nvPr/>
        </p:nvSpPr>
        <p:spPr>
          <a:xfrm>
            <a:off x="702000" y="533520"/>
            <a:ext cx="91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um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a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9" name="Group 54"/>
          <p:cNvGrpSpPr/>
          <p:nvPr/>
        </p:nvGrpSpPr>
        <p:grpSpPr>
          <a:xfrm>
            <a:off x="4049640" y="2286000"/>
            <a:ext cx="2732040" cy="3200400"/>
            <a:chOff x="4049640" y="2286000"/>
            <a:chExt cx="2732040" cy="3200400"/>
          </a:xfrm>
        </p:grpSpPr>
        <p:sp>
          <p:nvSpPr>
            <p:cNvPr id="1800" name="Line 52"/>
            <p:cNvSpPr/>
            <p:nvPr/>
          </p:nvSpPr>
          <p:spPr>
            <a:xfrm flipH="1" flipV="1">
              <a:off x="4952880" y="2286000"/>
              <a:ext cx="1828800" cy="320040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1" name="Rectangle 53"/>
            <p:cNvSpPr/>
            <p:nvPr/>
          </p:nvSpPr>
          <p:spPr>
            <a:xfrm>
              <a:off x="4049640" y="3990960"/>
              <a:ext cx="1997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Burning fossil fuels: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Increased combus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2" name="Group 62"/>
          <p:cNvGrpSpPr/>
          <p:nvPr/>
        </p:nvGrpSpPr>
        <p:grpSpPr>
          <a:xfrm>
            <a:off x="5410080" y="1384200"/>
            <a:ext cx="3585960" cy="1892520"/>
            <a:chOff x="5410080" y="1384200"/>
            <a:chExt cx="3585960" cy="1892520"/>
          </a:xfrm>
        </p:grpSpPr>
        <p:sp>
          <p:nvSpPr>
            <p:cNvPr id="1803" name="Line 59"/>
            <p:cNvSpPr/>
            <p:nvPr/>
          </p:nvSpPr>
          <p:spPr>
            <a:xfrm>
              <a:off x="6095880" y="1905120"/>
              <a:ext cx="2590920" cy="761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4" name="Line 60"/>
            <p:cNvSpPr/>
            <p:nvPr/>
          </p:nvSpPr>
          <p:spPr>
            <a:xfrm flipH="1" flipV="1">
              <a:off x="5410080" y="2209680"/>
              <a:ext cx="1905120" cy="1067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5" name="Rectangle 61"/>
            <p:cNvSpPr/>
            <p:nvPr/>
          </p:nvSpPr>
          <p:spPr>
            <a:xfrm>
              <a:off x="6757920" y="1384200"/>
              <a:ext cx="2238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Deforestation: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Decrease Photosynthesi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Increase Respir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06" name="Rectangle 63"/>
          <p:cNvSpPr/>
          <p:nvPr/>
        </p:nvSpPr>
        <p:spPr>
          <a:xfrm>
            <a:off x="652680" y="3200400"/>
            <a:ext cx="191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t Effect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 in Carb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Atmosp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20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bon 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9" name="Picture 4" descr=""/>
          <p:cNvPicPr/>
          <p:nvPr/>
        </p:nvPicPr>
        <p:blipFill>
          <a:blip r:embed="rId1"/>
          <a:stretch/>
        </p:blipFill>
        <p:spPr>
          <a:xfrm>
            <a:off x="0" y="820800"/>
            <a:ext cx="9144000" cy="60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Rectangle 2"/>
          <p:cNvSpPr/>
          <p:nvPr/>
        </p:nvSpPr>
        <p:spPr>
          <a:xfrm>
            <a:off x="685800" y="5335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Text Box 4"/>
          <p:cNvSpPr/>
          <p:nvPr/>
        </p:nvSpPr>
        <p:spPr>
          <a:xfrm>
            <a:off x="1066680" y="1295280"/>
            <a:ext cx="693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ajor components of aquatic ecosystem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Text Box 6"/>
          <p:cNvSpPr/>
          <p:nvPr/>
        </p:nvSpPr>
        <p:spPr>
          <a:xfrm>
            <a:off x="1447920" y="5943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 4–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3" name="Picture 7" descr="M04_10"/>
          <p:cNvPicPr/>
          <p:nvPr/>
        </p:nvPicPr>
        <p:blipFill>
          <a:blip r:embed="rId1"/>
          <a:stretch/>
        </p:blipFill>
        <p:spPr>
          <a:xfrm>
            <a:off x="1447920" y="1905120"/>
            <a:ext cx="5943600" cy="405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Rectangle 2"/>
          <p:cNvSpPr/>
          <p:nvPr/>
        </p:nvSpPr>
        <p:spPr>
          <a:xfrm>
            <a:off x="685800" y="5335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Text Box 4"/>
          <p:cNvSpPr/>
          <p:nvPr/>
        </p:nvSpPr>
        <p:spPr>
          <a:xfrm>
            <a:off x="1066680" y="1295280"/>
            <a:ext cx="693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ajor components of terrestrial ecosystem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Text Box 5"/>
          <p:cNvSpPr/>
          <p:nvPr/>
        </p:nvSpPr>
        <p:spPr>
          <a:xfrm>
            <a:off x="1371600" y="5962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 4–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7" name="Picture 6" descr="M04_11"/>
          <p:cNvPicPr/>
          <p:nvPr/>
        </p:nvPicPr>
        <p:blipFill>
          <a:blip r:embed="rId1"/>
          <a:srcRect l="0" t="0" r="0" b="667"/>
          <a:stretch/>
        </p:blipFill>
        <p:spPr>
          <a:xfrm>
            <a:off x="990720" y="1905120"/>
            <a:ext cx="6553080" cy="4057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HUMAN IMP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rbon dioxide is added to the atmosphere by human activities – burning fossil fuels (coal and oil).  Carbon dioxide is a greenhouse g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0" name="Picture 2" descr="F:\Lyn Marshmead\Curriculum\2007\Sustainable Community\Housing\Reference Materials\GREENHOUSE%20EFFECT.jpg"/>
          <p:cNvPicPr/>
          <p:nvPr/>
        </p:nvPicPr>
        <p:blipFill>
          <a:blip r:embed="rId1"/>
          <a:stretch/>
        </p:blipFill>
        <p:spPr>
          <a:xfrm>
            <a:off x="0" y="-101520"/>
            <a:ext cx="9144000" cy="69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1" name="Picture 2" descr="F:\Lyn Marshmead\Curriculum\2007\Sustainable Community\Housing\Reference Materials\Greenhouse-Effect1.gif"/>
          <p:cNvPicPr/>
          <p:nvPr/>
        </p:nvPicPr>
        <p:blipFill>
          <a:blip r:embed="rId1"/>
          <a:stretch/>
        </p:blipFill>
        <p:spPr>
          <a:xfrm>
            <a:off x="1714680" y="343080"/>
            <a:ext cx="5643360" cy="60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2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182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How and in what form does carbon enter and leave the cycl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How do the roles of autotrophs and heterotrophs differ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What are the human impacts on the cycle</a:t>
            </a: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1" name="Picture 8" descr="M04_06"/>
          <p:cNvPicPr/>
          <p:nvPr/>
        </p:nvPicPr>
        <p:blipFill>
          <a:blip r:embed="rId1"/>
          <a:stretch/>
        </p:blipFill>
        <p:spPr>
          <a:xfrm>
            <a:off x="3286080" y="1571760"/>
            <a:ext cx="4667400" cy="4628880"/>
          </a:xfrm>
          <a:prstGeom prst="rect">
            <a:avLst/>
          </a:prstGeom>
          <a:ln w="0">
            <a:noFill/>
          </a:ln>
        </p:spPr>
      </p:pic>
      <p:pic>
        <p:nvPicPr>
          <p:cNvPr id="1622" name="Rectangle 9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510760" cy="1158840"/>
          </a:xfrm>
          <a:prstGeom prst="rect">
            <a:avLst/>
          </a:prstGeom>
          <a:ln w="0">
            <a:noFill/>
          </a:ln>
        </p:spPr>
      </p:pic>
      <p:sp>
        <p:nvSpPr>
          <p:cNvPr id="1623" name=""/>
          <p:cNvSpPr txBox="1"/>
          <p:nvPr/>
        </p:nvSpPr>
        <p:spPr>
          <a:xfrm>
            <a:off x="228240" y="19810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Rockwell"/>
              </a:rPr>
              <a:t>Life on Earth depends upon one–way flow of high–quality energy from sun &amp; cycling of crucial elements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CYCLING OF CARBON ATOM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Carbon atoms are recycled through the living and non-living parts of an ecosystem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Producers take up carbon dioxide and build this into organic molecules (sugars and starches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Consumers eat this organic matter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Draw a summarised flow chart to indicate the flow movement of carbon atoms in a terrestrial ecosystem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CYCLING OF CARBON ATOM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Carbon is taken up from the atmosphere by plants by photosynthesis.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Because carbon enters the atmosphere, it can move through the atmosphere on a global scal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Basic Carbon cycle: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13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Rectangle 6"/>
          <p:cNvSpPr/>
          <p:nvPr/>
        </p:nvSpPr>
        <p:spPr>
          <a:xfrm>
            <a:off x="2438280" y="13716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Carbon Cyc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0" name="Picture 5" descr="http://www.colorado.edu/GeolSci/courses/GEOL1070/chap04/GR000003.JPG"/>
          <p:cNvPicPr/>
          <p:nvPr/>
        </p:nvPicPr>
        <p:blipFill>
          <a:blip r:embed="rId1"/>
          <a:stretch/>
        </p:blipFill>
        <p:spPr>
          <a:xfrm>
            <a:off x="1785960" y="166680"/>
            <a:ext cx="5357880" cy="6765840"/>
          </a:xfrm>
          <a:prstGeom prst="rect">
            <a:avLst/>
          </a:prstGeom>
          <a:ln w="0">
            <a:noFill/>
          </a:ln>
        </p:spPr>
      </p:pic>
      <p:sp>
        <p:nvSpPr>
          <p:cNvPr id="1631" name="Rectangle 7"/>
          <p:cNvSpPr/>
          <p:nvPr/>
        </p:nvSpPr>
        <p:spPr>
          <a:xfrm>
            <a:off x="2454480" y="615060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2" name="Picture 2" descr="FG03_016"/>
          <p:cNvPicPr/>
          <p:nvPr/>
        </p:nvPicPr>
        <p:blipFill>
          <a:blip r:embed="rId1"/>
          <a:stretch/>
        </p:blipFill>
        <p:spPr>
          <a:xfrm>
            <a:off x="0" y="181080"/>
            <a:ext cx="9144000" cy="6676920"/>
          </a:xfrm>
          <a:prstGeom prst="rect">
            <a:avLst/>
          </a:prstGeom>
          <a:ln w="0">
            <a:noFill/>
          </a:ln>
        </p:spPr>
      </p:pic>
      <p:sp>
        <p:nvSpPr>
          <p:cNvPr id="1633" name="Text Box 3"/>
          <p:cNvSpPr/>
          <p:nvPr/>
        </p:nvSpPr>
        <p:spPr>
          <a:xfrm>
            <a:off x="6825600" y="34596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rbon Cyc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4" name="Rectangle 2" descr=""/>
          <p:cNvPicPr/>
          <p:nvPr/>
        </p:nvPicPr>
        <p:blipFill>
          <a:blip r:embed="rId1"/>
          <a:stretch/>
        </p:blipFill>
        <p:spPr>
          <a:xfrm>
            <a:off x="49320" y="365040"/>
            <a:ext cx="7710480" cy="860400"/>
          </a:xfrm>
          <a:prstGeom prst="rect">
            <a:avLst/>
          </a:prstGeom>
          <a:ln w="0">
            <a:noFill/>
          </a:ln>
        </p:spPr>
      </p:pic>
      <p:sp>
        <p:nvSpPr>
          <p:cNvPr id="163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609480" indent="-609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Hydrosphere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- water layer. Liquid, Ice, Vapor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Lithosphere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- Earth’s crust and upper mantle.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- Fossil fuels, minerals, soil chemical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Biosphere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- biotic &amp; abiotic factors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bon 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Freeform 3"/>
          <p:cNvSpPr/>
          <p:nvPr/>
        </p:nvSpPr>
        <p:spPr>
          <a:xfrm>
            <a:off x="1219320" y="3822840"/>
            <a:ext cx="7932600" cy="2806560"/>
          </a:xfrm>
          <a:prstGeom prst="pie">
            <a:avLst/>
          </a:prstGeom>
          <a:solidFill>
            <a:srgbClr val="d2a9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Freeform 5"/>
          <p:cNvSpPr/>
          <p:nvPr/>
        </p:nvSpPr>
        <p:spPr>
          <a:xfrm>
            <a:off x="0" y="5181480"/>
            <a:ext cx="5486400" cy="1447920"/>
          </a:xfrm>
          <a:prstGeom prst="pie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AutoShape 6"/>
          <p:cNvSpPr/>
          <p:nvPr/>
        </p:nvSpPr>
        <p:spPr>
          <a:xfrm>
            <a:off x="2209680" y="1676520"/>
            <a:ext cx="1828800" cy="1066680"/>
          </a:xfrm>
          <a:prstGeom prst="cloudCallout">
            <a:avLst>
              <a:gd name="adj1" fmla="val -46875"/>
              <a:gd name="adj2" fmla="val 1860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AutoShape 7"/>
          <p:cNvSpPr/>
          <p:nvPr/>
        </p:nvSpPr>
        <p:spPr>
          <a:xfrm>
            <a:off x="685800" y="1828800"/>
            <a:ext cx="1828800" cy="1066680"/>
          </a:xfrm>
          <a:prstGeom prst="cloudCallout">
            <a:avLst>
              <a:gd name="adj1" fmla="val -46875"/>
              <a:gd name="adj2" fmla="val 1860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1" name="Group 12"/>
          <p:cNvGrpSpPr/>
          <p:nvPr/>
        </p:nvGrpSpPr>
        <p:grpSpPr>
          <a:xfrm>
            <a:off x="7010280" y="2666880"/>
            <a:ext cx="762120" cy="1600200"/>
            <a:chOff x="7010280" y="2666880"/>
            <a:chExt cx="762120" cy="1600200"/>
          </a:xfrm>
        </p:grpSpPr>
        <p:sp>
          <p:nvSpPr>
            <p:cNvPr id="1642" name="Rectangle 10"/>
            <p:cNvSpPr/>
            <p:nvPr/>
          </p:nvSpPr>
          <p:spPr>
            <a:xfrm>
              <a:off x="7315200" y="3429000"/>
              <a:ext cx="152280" cy="838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3" name="AutoShape 11"/>
            <p:cNvSpPr/>
            <p:nvPr/>
          </p:nvSpPr>
          <p:spPr>
            <a:xfrm>
              <a:off x="7010280" y="2666880"/>
              <a:ext cx="762120" cy="1067040"/>
            </a:xfrm>
            <a:prstGeom prst="cloudCallout">
              <a:avLst>
                <a:gd name="adj1" fmla="val 3333"/>
                <a:gd name="adj2" fmla="val 12055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44" name="Group 13"/>
          <p:cNvGrpSpPr/>
          <p:nvPr/>
        </p:nvGrpSpPr>
        <p:grpSpPr>
          <a:xfrm>
            <a:off x="7315200" y="2590920"/>
            <a:ext cx="762120" cy="1600200"/>
            <a:chOff x="7315200" y="2590920"/>
            <a:chExt cx="762120" cy="1600200"/>
          </a:xfrm>
        </p:grpSpPr>
        <p:sp>
          <p:nvSpPr>
            <p:cNvPr id="1645" name="Rectangle 14"/>
            <p:cNvSpPr/>
            <p:nvPr/>
          </p:nvSpPr>
          <p:spPr>
            <a:xfrm>
              <a:off x="7620120" y="3353040"/>
              <a:ext cx="152280" cy="838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6" name="AutoShape 15"/>
            <p:cNvSpPr/>
            <p:nvPr/>
          </p:nvSpPr>
          <p:spPr>
            <a:xfrm>
              <a:off x="7315200" y="2590920"/>
              <a:ext cx="762120" cy="1067040"/>
            </a:xfrm>
            <a:prstGeom prst="cloudCallout">
              <a:avLst>
                <a:gd name="adj1" fmla="val 3333"/>
                <a:gd name="adj2" fmla="val 12055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47" name="Group 16"/>
          <p:cNvGrpSpPr/>
          <p:nvPr/>
        </p:nvGrpSpPr>
        <p:grpSpPr>
          <a:xfrm>
            <a:off x="7620120" y="2514600"/>
            <a:ext cx="761760" cy="1600200"/>
            <a:chOff x="7620120" y="2514600"/>
            <a:chExt cx="761760" cy="1600200"/>
          </a:xfrm>
        </p:grpSpPr>
        <p:sp>
          <p:nvSpPr>
            <p:cNvPr id="1648" name="Rectangle 17"/>
            <p:cNvSpPr/>
            <p:nvPr/>
          </p:nvSpPr>
          <p:spPr>
            <a:xfrm>
              <a:off x="7924680" y="3276720"/>
              <a:ext cx="151920" cy="838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9" name="AutoShape 18"/>
            <p:cNvSpPr/>
            <p:nvPr/>
          </p:nvSpPr>
          <p:spPr>
            <a:xfrm>
              <a:off x="7620120" y="2514600"/>
              <a:ext cx="761760" cy="1067040"/>
            </a:xfrm>
            <a:prstGeom prst="cloudCallout">
              <a:avLst>
                <a:gd name="adj1" fmla="val 3333"/>
                <a:gd name="adj2" fmla="val 12055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50" name="Group 19"/>
          <p:cNvGrpSpPr/>
          <p:nvPr/>
        </p:nvGrpSpPr>
        <p:grpSpPr>
          <a:xfrm>
            <a:off x="7924680" y="2438280"/>
            <a:ext cx="762120" cy="1600200"/>
            <a:chOff x="7924680" y="2438280"/>
            <a:chExt cx="762120" cy="1600200"/>
          </a:xfrm>
        </p:grpSpPr>
        <p:sp>
          <p:nvSpPr>
            <p:cNvPr id="1651" name="Rectangle 20"/>
            <p:cNvSpPr/>
            <p:nvPr/>
          </p:nvSpPr>
          <p:spPr>
            <a:xfrm>
              <a:off x="8229600" y="3200400"/>
              <a:ext cx="152280" cy="838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2" name="AutoShape 21"/>
            <p:cNvSpPr/>
            <p:nvPr/>
          </p:nvSpPr>
          <p:spPr>
            <a:xfrm>
              <a:off x="7924680" y="2438280"/>
              <a:ext cx="762120" cy="1067040"/>
            </a:xfrm>
            <a:prstGeom prst="cloudCallout">
              <a:avLst>
                <a:gd name="adj1" fmla="val 3333"/>
                <a:gd name="adj2" fmla="val 12055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53" name="Group 22"/>
          <p:cNvGrpSpPr/>
          <p:nvPr/>
        </p:nvGrpSpPr>
        <p:grpSpPr>
          <a:xfrm>
            <a:off x="8229600" y="2362320"/>
            <a:ext cx="762120" cy="1600200"/>
            <a:chOff x="8229600" y="2362320"/>
            <a:chExt cx="762120" cy="1600200"/>
          </a:xfrm>
        </p:grpSpPr>
        <p:sp>
          <p:nvSpPr>
            <p:cNvPr id="1654" name="Rectangle 23"/>
            <p:cNvSpPr/>
            <p:nvPr/>
          </p:nvSpPr>
          <p:spPr>
            <a:xfrm>
              <a:off x="8534520" y="3124440"/>
              <a:ext cx="152280" cy="838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5" name="AutoShape 24"/>
            <p:cNvSpPr/>
            <p:nvPr/>
          </p:nvSpPr>
          <p:spPr>
            <a:xfrm>
              <a:off x="8229600" y="2362320"/>
              <a:ext cx="762120" cy="1067040"/>
            </a:xfrm>
            <a:prstGeom prst="cloudCallout">
              <a:avLst>
                <a:gd name="adj1" fmla="val 3333"/>
                <a:gd name="adj2" fmla="val 12055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56" name="Rectangle 25"/>
          <p:cNvSpPr/>
          <p:nvPr/>
        </p:nvSpPr>
        <p:spPr>
          <a:xfrm>
            <a:off x="4362840" y="1828800"/>
            <a:ext cx="13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tmosp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Rectangle 26"/>
          <p:cNvSpPr/>
          <p:nvPr/>
        </p:nvSpPr>
        <p:spPr>
          <a:xfrm>
            <a:off x="881640" y="563868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ydrosp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Rectangle 27"/>
          <p:cNvSpPr/>
          <p:nvPr/>
        </p:nvSpPr>
        <p:spPr>
          <a:xfrm>
            <a:off x="7027920" y="54100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thosp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Rectangle 28"/>
          <p:cNvSpPr/>
          <p:nvPr/>
        </p:nvSpPr>
        <p:spPr>
          <a:xfrm>
            <a:off x="7383240" y="281952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osp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AutoShape 29"/>
          <p:cNvSpPr/>
          <p:nvPr/>
        </p:nvSpPr>
        <p:spPr>
          <a:xfrm>
            <a:off x="3124080" y="5410080"/>
            <a:ext cx="1067040" cy="228600"/>
          </a:xfrm>
          <a:prstGeom prst="cloudCallout">
            <a:avLst>
              <a:gd name="adj1" fmla="val 7439"/>
              <a:gd name="adj2" fmla="val 13194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bon Cycle: Reservoi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Freeform 3"/>
          <p:cNvSpPr/>
          <p:nvPr/>
        </p:nvSpPr>
        <p:spPr>
          <a:xfrm>
            <a:off x="1219320" y="3822840"/>
            <a:ext cx="7932600" cy="2806560"/>
          </a:xfrm>
          <a:prstGeom prst="pie">
            <a:avLst/>
          </a:prstGeom>
          <a:solidFill>
            <a:srgbClr val="d2a9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Freeform 4"/>
          <p:cNvSpPr/>
          <p:nvPr/>
        </p:nvSpPr>
        <p:spPr>
          <a:xfrm>
            <a:off x="0" y="5181480"/>
            <a:ext cx="5486400" cy="1447920"/>
          </a:xfrm>
          <a:prstGeom prst="pie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AutoShape 5"/>
          <p:cNvSpPr/>
          <p:nvPr/>
        </p:nvSpPr>
        <p:spPr>
          <a:xfrm>
            <a:off x="2209680" y="1676520"/>
            <a:ext cx="1828800" cy="1066680"/>
          </a:xfrm>
          <a:prstGeom prst="cloudCallout">
            <a:avLst>
              <a:gd name="adj1" fmla="val -46875"/>
              <a:gd name="adj2" fmla="val 1860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AutoShape 6"/>
          <p:cNvSpPr/>
          <p:nvPr/>
        </p:nvSpPr>
        <p:spPr>
          <a:xfrm>
            <a:off x="685800" y="1828800"/>
            <a:ext cx="1828800" cy="1066680"/>
          </a:xfrm>
          <a:prstGeom prst="cloudCallout">
            <a:avLst>
              <a:gd name="adj1" fmla="val -46875"/>
              <a:gd name="adj2" fmla="val 1860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66" name="Group 7"/>
          <p:cNvGrpSpPr/>
          <p:nvPr/>
        </p:nvGrpSpPr>
        <p:grpSpPr>
          <a:xfrm>
            <a:off x="7010280" y="2666880"/>
            <a:ext cx="762120" cy="1600200"/>
            <a:chOff x="7010280" y="2666880"/>
            <a:chExt cx="762120" cy="1600200"/>
          </a:xfrm>
        </p:grpSpPr>
        <p:sp>
          <p:nvSpPr>
            <p:cNvPr id="1667" name="Rectangle 8"/>
            <p:cNvSpPr/>
            <p:nvPr/>
          </p:nvSpPr>
          <p:spPr>
            <a:xfrm>
              <a:off x="7315200" y="3429000"/>
              <a:ext cx="152280" cy="838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8" name="AutoShape 9"/>
            <p:cNvSpPr/>
            <p:nvPr/>
          </p:nvSpPr>
          <p:spPr>
            <a:xfrm>
              <a:off x="7010280" y="2666880"/>
              <a:ext cx="762120" cy="1067040"/>
            </a:xfrm>
            <a:prstGeom prst="cloudCallout">
              <a:avLst>
                <a:gd name="adj1" fmla="val 3333"/>
                <a:gd name="adj2" fmla="val 12055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9" name="Group 10"/>
          <p:cNvGrpSpPr/>
          <p:nvPr/>
        </p:nvGrpSpPr>
        <p:grpSpPr>
          <a:xfrm>
            <a:off x="7315200" y="2590920"/>
            <a:ext cx="762120" cy="1600200"/>
            <a:chOff x="7315200" y="2590920"/>
            <a:chExt cx="762120" cy="1600200"/>
          </a:xfrm>
        </p:grpSpPr>
        <p:sp>
          <p:nvSpPr>
            <p:cNvPr id="1670" name="Rectangle 11"/>
            <p:cNvSpPr/>
            <p:nvPr/>
          </p:nvSpPr>
          <p:spPr>
            <a:xfrm>
              <a:off x="7620120" y="3353040"/>
              <a:ext cx="152280" cy="838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1" name="AutoShape 12"/>
            <p:cNvSpPr/>
            <p:nvPr/>
          </p:nvSpPr>
          <p:spPr>
            <a:xfrm>
              <a:off x="7315200" y="2590920"/>
              <a:ext cx="762120" cy="1067040"/>
            </a:xfrm>
            <a:prstGeom prst="cloudCallout">
              <a:avLst>
                <a:gd name="adj1" fmla="val 3333"/>
                <a:gd name="adj2" fmla="val 12055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2" name="Group 13"/>
          <p:cNvGrpSpPr/>
          <p:nvPr/>
        </p:nvGrpSpPr>
        <p:grpSpPr>
          <a:xfrm>
            <a:off x="7620120" y="2514600"/>
            <a:ext cx="761760" cy="1600200"/>
            <a:chOff x="7620120" y="2514600"/>
            <a:chExt cx="761760" cy="1600200"/>
          </a:xfrm>
        </p:grpSpPr>
        <p:sp>
          <p:nvSpPr>
            <p:cNvPr id="1673" name="Rectangle 14"/>
            <p:cNvSpPr/>
            <p:nvPr/>
          </p:nvSpPr>
          <p:spPr>
            <a:xfrm>
              <a:off x="7924680" y="3276720"/>
              <a:ext cx="151920" cy="838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4" name="AutoShape 15"/>
            <p:cNvSpPr/>
            <p:nvPr/>
          </p:nvSpPr>
          <p:spPr>
            <a:xfrm>
              <a:off x="7620120" y="2514600"/>
              <a:ext cx="761760" cy="1067040"/>
            </a:xfrm>
            <a:prstGeom prst="cloudCallout">
              <a:avLst>
                <a:gd name="adj1" fmla="val 3333"/>
                <a:gd name="adj2" fmla="val 12055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5" name="Group 16"/>
          <p:cNvGrpSpPr/>
          <p:nvPr/>
        </p:nvGrpSpPr>
        <p:grpSpPr>
          <a:xfrm>
            <a:off x="7924680" y="2438280"/>
            <a:ext cx="762120" cy="1600200"/>
            <a:chOff x="7924680" y="2438280"/>
            <a:chExt cx="762120" cy="1600200"/>
          </a:xfrm>
        </p:grpSpPr>
        <p:sp>
          <p:nvSpPr>
            <p:cNvPr id="1676" name="Rectangle 17"/>
            <p:cNvSpPr/>
            <p:nvPr/>
          </p:nvSpPr>
          <p:spPr>
            <a:xfrm>
              <a:off x="8229600" y="3200400"/>
              <a:ext cx="152280" cy="838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7" name="AutoShape 18"/>
            <p:cNvSpPr/>
            <p:nvPr/>
          </p:nvSpPr>
          <p:spPr>
            <a:xfrm>
              <a:off x="7924680" y="2438280"/>
              <a:ext cx="762120" cy="1067040"/>
            </a:xfrm>
            <a:prstGeom prst="cloudCallout">
              <a:avLst>
                <a:gd name="adj1" fmla="val 3333"/>
                <a:gd name="adj2" fmla="val 12055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8" name="Group 19"/>
          <p:cNvGrpSpPr/>
          <p:nvPr/>
        </p:nvGrpSpPr>
        <p:grpSpPr>
          <a:xfrm>
            <a:off x="8229600" y="2362320"/>
            <a:ext cx="762120" cy="1600200"/>
            <a:chOff x="8229600" y="2362320"/>
            <a:chExt cx="762120" cy="1600200"/>
          </a:xfrm>
        </p:grpSpPr>
        <p:sp>
          <p:nvSpPr>
            <p:cNvPr id="1679" name="Rectangle 20"/>
            <p:cNvSpPr/>
            <p:nvPr/>
          </p:nvSpPr>
          <p:spPr>
            <a:xfrm>
              <a:off x="8534520" y="3124440"/>
              <a:ext cx="152280" cy="838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0" name="AutoShape 21"/>
            <p:cNvSpPr/>
            <p:nvPr/>
          </p:nvSpPr>
          <p:spPr>
            <a:xfrm>
              <a:off x="8229600" y="2362320"/>
              <a:ext cx="762120" cy="1067040"/>
            </a:xfrm>
            <a:prstGeom prst="cloudCallout">
              <a:avLst>
                <a:gd name="adj1" fmla="val 3333"/>
                <a:gd name="adj2" fmla="val 12055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81" name="Rectangle 22"/>
          <p:cNvSpPr/>
          <p:nvPr/>
        </p:nvSpPr>
        <p:spPr>
          <a:xfrm>
            <a:off x="4362840" y="1828800"/>
            <a:ext cx="13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tmosp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Rectangle 23"/>
          <p:cNvSpPr/>
          <p:nvPr/>
        </p:nvSpPr>
        <p:spPr>
          <a:xfrm>
            <a:off x="881640" y="563868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ydrosp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Rectangle 24"/>
          <p:cNvSpPr/>
          <p:nvPr/>
        </p:nvSpPr>
        <p:spPr>
          <a:xfrm>
            <a:off x="7027920" y="54100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thosp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4" name="Rectangle 25"/>
          <p:cNvSpPr/>
          <p:nvPr/>
        </p:nvSpPr>
        <p:spPr>
          <a:xfrm>
            <a:off x="7383240" y="281952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osp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AutoShape 26"/>
          <p:cNvSpPr/>
          <p:nvPr/>
        </p:nvSpPr>
        <p:spPr>
          <a:xfrm>
            <a:off x="3124080" y="5410080"/>
            <a:ext cx="1067040" cy="228600"/>
          </a:xfrm>
          <a:prstGeom prst="cloudCallout">
            <a:avLst>
              <a:gd name="adj1" fmla="val 7439"/>
              <a:gd name="adj2" fmla="val 13194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Rectangle 27"/>
          <p:cNvSpPr/>
          <p:nvPr/>
        </p:nvSpPr>
        <p:spPr>
          <a:xfrm>
            <a:off x="4046760" y="2157480"/>
            <a:ext cx="179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= 7.3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17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gr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rb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Rectangle 28"/>
          <p:cNvSpPr/>
          <p:nvPr/>
        </p:nvSpPr>
        <p:spPr>
          <a:xfrm>
            <a:off x="6760800" y="373392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Rectangle 29"/>
          <p:cNvSpPr/>
          <p:nvPr/>
        </p:nvSpPr>
        <p:spPr>
          <a:xfrm>
            <a:off x="1454040" y="47242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Rectangle 30"/>
          <p:cNvSpPr/>
          <p:nvPr/>
        </p:nvSpPr>
        <p:spPr>
          <a:xfrm>
            <a:off x="7187040" y="502920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5,000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7T02:48:35Z</dcterms:created>
  <dc:creator>Lyn Clarkson</dc:creator>
  <dc:description/>
  <dc:language>en-US</dc:language>
  <cp:lastModifiedBy>Lyn Clarkson</cp:lastModifiedBy>
  <dcterms:modified xsi:type="dcterms:W3CDTF">2007-10-26T01:27:43Z</dcterms:modified>
  <cp:revision>18</cp:revision>
  <dc:subject/>
  <dc:title>CYCLING OF CARBON ATOMS</dc:title>
</cp:coreProperties>
</file>